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6929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92400" cy="100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042920" y="1074600"/>
            <a:ext cx="453384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200" y="4784400"/>
            <a:ext cx="5759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9428040"/>
            <a:ext cx="575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/ </a:t>
            </a:r>
            <a:fld id="{38F34642-FB47-4B32-B9EF-74B0F15B50F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oftware 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471600" y="755640"/>
            <a:ext cx="5742000" cy="43070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892080" y="6114960"/>
            <a:ext cx="539136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584280" y="843120"/>
            <a:ext cx="5537160" cy="41526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861840" y="6109920"/>
            <a:ext cx="5207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584280" y="843120"/>
            <a:ext cx="5537160" cy="41526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861840" y="6109920"/>
            <a:ext cx="5207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584280" y="843120"/>
            <a:ext cx="5537160" cy="41526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61840" y="6109920"/>
            <a:ext cx="5207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892080" y="4784760"/>
            <a:ext cx="4983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584280" y="843120"/>
            <a:ext cx="5537160" cy="41526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861840" y="6109920"/>
            <a:ext cx="5207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892080" y="4784760"/>
            <a:ext cx="4983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1079280" y="4787640"/>
            <a:ext cx="474804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471600" y="755640"/>
            <a:ext cx="5742000" cy="43070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892080" y="6114960"/>
            <a:ext cx="539136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584280" y="843120"/>
            <a:ext cx="5537160" cy="41526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861840" y="6109920"/>
            <a:ext cx="52070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471600" y="755640"/>
            <a:ext cx="5742000" cy="43070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892080" y="6114960"/>
            <a:ext cx="539136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jor Timeout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-NON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-NON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-NON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imers are in place to timeout inactive resources (Servers, Clients, and Connections).  The EntireX Timeout Manager (TOM) managers all timeout values within Entir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-NONACT timer is used to free inactiv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RVER-NONACT timer is invoked, the Timeout Manager deletes the Participant and Service Control Blocks (PCBs and SC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CLIENT-NONACT timer is invoked, all Client resources that have become inactive are rel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information when the timeout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-NONACT timer release any inactive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reX trace information relating to the CONV-NONACT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828720" y="4784760"/>
            <a:ext cx="5035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X Time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sure the Broker kernel is kept clean, make sure the applications issue a LOGOFF function.  This will clean-up all resources when the call is comple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828720" y="755640"/>
            <a:ext cx="5035680" cy="377676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892080" y="4784760"/>
            <a:ext cx="4983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466200" y="392040"/>
            <a:ext cx="5759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496800" y="696960"/>
            <a:ext cx="5715000" cy="42861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861840" y="6130800"/>
            <a:ext cx="52070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1120" y="394956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80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676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112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912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676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776772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394956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44792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3949560"/>
            <a:ext cx="250236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7767720" cy="35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800" y="394956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447920"/>
            <a:ext cx="37926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1120" y="394956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8480"/>
          </a:xfrm>
          <a:prstGeom prst="rect">
            <a:avLst/>
          </a:prstGeom>
          <a:solidFill>
            <a:srgbClr val="005baf"/>
          </a:solidFill>
          <a:ln w="9360">
            <a:solidFill>
              <a:srgbClr val="024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-249480">
              <a:spcBef>
                <a:spcPts val="451"/>
              </a:spcBef>
              <a:buClr>
                <a:srgbClr val="cc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174680" indent="-317520">
              <a:spcBef>
                <a:spcPts val="451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176480" indent="301320">
              <a:spcBef>
                <a:spcPts val="451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176480" indent="30132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176480" indent="30132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0760" y="6400800"/>
            <a:ext cx="776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815B-CD01-4FC2-9DA5-D0ECC4D5B45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2984400" y="5333760"/>
            <a:ext cx="1905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Times New Roman"/>
              </a:rPr>
              <a:t>10/17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71440" y="3838680"/>
            <a:ext cx="548172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8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47040" y="6181560"/>
            <a:ext cx="2138040" cy="366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593640" algn="ctr">
              <a:spcBef>
                <a:spcPts val="451"/>
              </a:spcBef>
              <a:buClr>
                <a:srgbClr val="cc0000"/>
              </a:buClr>
              <a:buSzPct val="11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857160" algn="ctr">
              <a:spcBef>
                <a:spcPts val="451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477800" algn="ctr">
              <a:spcBef>
                <a:spcPts val="451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12.wmf"/><Relationship Id="rId14" Type="http://schemas.openxmlformats.org/officeDocument/2006/relationships/image" Target="../media/image7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image" Target="../media/image12.wmf"/><Relationship Id="rId18" Type="http://schemas.openxmlformats.org/officeDocument/2006/relationships/image" Target="../media/image12.wmf"/><Relationship Id="rId19" Type="http://schemas.openxmlformats.org/officeDocument/2006/relationships/image" Target="../media/image12.wmf"/><Relationship Id="rId20" Type="http://schemas.openxmlformats.org/officeDocument/2006/relationships/image" Target="../media/image12.wmf"/><Relationship Id="rId21" Type="http://schemas.openxmlformats.org/officeDocument/2006/relationships/image" Target="../media/image12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0" y="3838320"/>
            <a:ext cx="62643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ireX Troubleshoo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71440" y="4653000"/>
            <a:ext cx="548172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ve Hu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roubleshoo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ere to start !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ere is the error occurring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lient, XML RPC Server, or EntireX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Use the EntireX trace facili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ntireX errors are divided into a Error Class and Error Co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0215014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0215 = Error Cla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0148 = Error Co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rror messages are listed in the EntireX Message and Codes section of the document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eck Software AG ServLine24 Knowledge Bas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Errors -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80880" y="1828800"/>
          <a:ext cx="8271000" cy="3846600"/>
        </p:xfrm>
        <a:graphic>
          <a:graphicData uri="http://schemas.openxmlformats.org/drawingml/2006/table">
            <a:tbl>
              <a:tblPr/>
              <a:tblGrid>
                <a:gridCol w="1779840"/>
                <a:gridCol w="2662200"/>
                <a:gridCol w="38289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2150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onnec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ke Sure Broker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7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ervice Not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ke sure RPC Server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740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Wait Time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lient time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ccess Denied profile not def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p Secret resource profile not def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assword not author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pply correct Top Secret Pas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ccess denied User-ID Revo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eset User-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3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OC Due to Partner Log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eceive attempted for a conversation that has already been closed by the partner. Partner has issued a logof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Errors – XML RPC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17440" y="1419120"/>
          <a:ext cx="8499600" cy="4938840"/>
        </p:xfrm>
        <a:graphic>
          <a:graphicData uri="http://schemas.openxmlformats.org/drawingml/2006/table">
            <a:tbl>
              <a:tblPr/>
              <a:tblGrid>
                <a:gridCol w="2008080"/>
                <a:gridCol w="2662560"/>
                <a:gridCol w="382896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210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ervice Definition Not F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ervice being offered is not defined in the EntireX Attribute F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2150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onnec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ke Sure Broker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00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ML runtime cannot interpret the incoming documen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ke sure XML Document is correct. The XMM mapping file and XML document might not be in sy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000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ML runtime received an unexpected document (fault docu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ML and/or XMM file might not be correct. XML client might of sent incorrect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0000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ternal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end/Receive buffers might be corrup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ccess Denied profile not def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p Secret resource profile not def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assword not author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pply correct Top Secret Pas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08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ccess denied User-ID Revo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eset User-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Errors – EntireX Ker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7440" y="1838160"/>
          <a:ext cx="8499600" cy="1838520"/>
        </p:xfrm>
        <a:graphic>
          <a:graphicData uri="http://schemas.openxmlformats.org/drawingml/2006/table">
            <a:tbl>
              <a:tblPr/>
              <a:tblGrid>
                <a:gridCol w="2008080"/>
                <a:gridCol w="2662560"/>
                <a:gridCol w="382896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36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ntireX Broker Bu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etry Requ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0037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ntireX Broker Resource Shor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eview job log or activate the EntireX trace facility to determine resource shortage. The error will probably require changing an EntireX Attribute File parame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9960" y="1447920"/>
            <a:ext cx="3113280" cy="28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9600" y="1677600"/>
            <a:ext cx="843444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Trac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026040" y="1484280"/>
            <a:ext cx="1943280" cy="264312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144680" y="2430000"/>
            <a:ext cx="3689640" cy="3291840"/>
            <a:chOff x="4144680" y="2430000"/>
            <a:chExt cx="3689640" cy="3291840"/>
          </a:xfrm>
        </p:grpSpPr>
        <p:sp>
          <p:nvSpPr>
            <p:cNvPr id="279" name=""/>
            <p:cNvSpPr/>
            <p:nvPr/>
          </p:nvSpPr>
          <p:spPr>
            <a:xfrm rot="2383800">
              <a:off x="4179600" y="3189240"/>
              <a:ext cx="685800" cy="246240"/>
            </a:xfrm>
            <a:custGeom>
              <a:avLst/>
              <a:gdLst/>
              <a:ahLst/>
              <a:rect l="l" t="t" r="r" b="b"/>
              <a:pathLst>
                <a:path w="534" h="192">
                  <a:moveTo>
                    <a:pt x="0" y="0"/>
                  </a:moveTo>
                  <a:lnTo>
                    <a:pt x="534" y="0"/>
                  </a:lnTo>
                  <a:lnTo>
                    <a:pt x="474" y="192"/>
                  </a:lnTo>
                  <a:lnTo>
                    <a:pt x="26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383800">
              <a:off x="3984120" y="3601800"/>
              <a:ext cx="4010040" cy="947520"/>
            </a:xfrm>
            <a:custGeom>
              <a:avLst/>
              <a:gdLst/>
              <a:ahLst/>
              <a:rect l="l" t="t" r="r" b="b"/>
              <a:pathLst>
                <a:path w="3122" h="738">
                  <a:moveTo>
                    <a:pt x="0" y="228"/>
                  </a:moveTo>
                  <a:lnTo>
                    <a:pt x="53" y="165"/>
                  </a:lnTo>
                  <a:lnTo>
                    <a:pt x="104" y="111"/>
                  </a:lnTo>
                  <a:lnTo>
                    <a:pt x="158" y="61"/>
                  </a:lnTo>
                  <a:lnTo>
                    <a:pt x="215" y="24"/>
                  </a:lnTo>
                  <a:lnTo>
                    <a:pt x="264" y="0"/>
                  </a:lnTo>
                  <a:lnTo>
                    <a:pt x="552" y="0"/>
                  </a:lnTo>
                  <a:lnTo>
                    <a:pt x="846" y="222"/>
                  </a:lnTo>
                  <a:lnTo>
                    <a:pt x="2983" y="222"/>
                  </a:lnTo>
                  <a:lnTo>
                    <a:pt x="3029" y="233"/>
                  </a:lnTo>
                  <a:lnTo>
                    <a:pt x="3062" y="251"/>
                  </a:lnTo>
                  <a:lnTo>
                    <a:pt x="3086" y="272"/>
                  </a:lnTo>
                  <a:lnTo>
                    <a:pt x="3102" y="299"/>
                  </a:lnTo>
                  <a:lnTo>
                    <a:pt x="3113" y="338"/>
                  </a:lnTo>
                  <a:lnTo>
                    <a:pt x="3122" y="390"/>
                  </a:lnTo>
                  <a:lnTo>
                    <a:pt x="3119" y="441"/>
                  </a:lnTo>
                  <a:lnTo>
                    <a:pt x="3110" y="476"/>
                  </a:lnTo>
                  <a:lnTo>
                    <a:pt x="3093" y="512"/>
                  </a:lnTo>
                  <a:lnTo>
                    <a:pt x="3066" y="543"/>
                  </a:lnTo>
                  <a:lnTo>
                    <a:pt x="3035" y="560"/>
                  </a:lnTo>
                  <a:lnTo>
                    <a:pt x="2990" y="564"/>
                  </a:lnTo>
                  <a:lnTo>
                    <a:pt x="864" y="564"/>
                  </a:lnTo>
                  <a:lnTo>
                    <a:pt x="504" y="738"/>
                  </a:lnTo>
                  <a:lnTo>
                    <a:pt x="462" y="540"/>
                  </a:lnTo>
                  <a:lnTo>
                    <a:pt x="390" y="282"/>
                  </a:lnTo>
                  <a:lnTo>
                    <a:pt x="28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383800">
              <a:off x="4992120" y="4269600"/>
              <a:ext cx="2644560" cy="2617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383800">
              <a:off x="7176960" y="5109120"/>
              <a:ext cx="292680" cy="26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383800">
              <a:off x="5008320" y="3078000"/>
              <a:ext cx="169200" cy="41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383800">
              <a:off x="4995000" y="3122640"/>
              <a:ext cx="198720" cy="416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862520" y="3089880"/>
              <a:ext cx="459000" cy="480600"/>
              <a:chOff x="4862520" y="3089880"/>
              <a:chExt cx="459000" cy="480600"/>
            </a:xfrm>
          </p:grpSpPr>
          <p:sp>
            <p:nvSpPr>
              <p:cNvPr id="286" name=""/>
              <p:cNvSpPr/>
              <p:nvPr/>
            </p:nvSpPr>
            <p:spPr>
              <a:xfrm rot="2383800">
                <a:off x="4991760" y="3053520"/>
                <a:ext cx="3816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383800">
                <a:off x="5153760" y="3188160"/>
                <a:ext cx="3852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5058000" y="3129120"/>
                <a:ext cx="237240" cy="190800"/>
                <a:chOff x="5058000" y="3129120"/>
                <a:chExt cx="237240" cy="190800"/>
              </a:xfrm>
            </p:grpSpPr>
            <p:sp>
              <p:nvSpPr>
                <p:cNvPr id="289" name=""/>
                <p:cNvSpPr/>
                <p:nvPr/>
              </p:nvSpPr>
              <p:spPr>
                <a:xfrm rot="2383800">
                  <a:off x="5092200" y="3171960"/>
                  <a:ext cx="17208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2383800">
                  <a:off x="5069160" y="3161160"/>
                  <a:ext cx="5508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2383800">
                  <a:off x="5227200" y="323172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002920" y="3201480"/>
                <a:ext cx="236880" cy="190440"/>
                <a:chOff x="5002920" y="3201480"/>
                <a:chExt cx="236880" cy="190440"/>
              </a:xfrm>
            </p:grpSpPr>
            <p:sp>
              <p:nvSpPr>
                <p:cNvPr id="293" name=""/>
                <p:cNvSpPr/>
                <p:nvPr/>
              </p:nvSpPr>
              <p:spPr>
                <a:xfrm rot="2383800">
                  <a:off x="5036760" y="324396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2383800">
                  <a:off x="5014080" y="323352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2383800">
                  <a:off x="5171400" y="3304080"/>
                  <a:ext cx="56160" cy="5760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943520" y="3269160"/>
                <a:ext cx="236520" cy="190440"/>
                <a:chOff x="4943520" y="3269160"/>
                <a:chExt cx="236520" cy="190440"/>
              </a:xfrm>
            </p:grpSpPr>
            <p:sp>
              <p:nvSpPr>
                <p:cNvPr id="297" name=""/>
                <p:cNvSpPr/>
                <p:nvPr/>
              </p:nvSpPr>
              <p:spPr>
                <a:xfrm rot="2383800">
                  <a:off x="4977360" y="331164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2383800">
                  <a:off x="4954680" y="330120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383800">
                  <a:off x="5112000" y="337176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884480" y="3342240"/>
                <a:ext cx="236880" cy="190440"/>
                <a:chOff x="4884480" y="3342240"/>
                <a:chExt cx="236880" cy="190440"/>
              </a:xfrm>
            </p:grpSpPr>
            <p:sp>
              <p:nvSpPr>
                <p:cNvPr id="301" name=""/>
                <p:cNvSpPr/>
                <p:nvPr/>
              </p:nvSpPr>
              <p:spPr>
                <a:xfrm rot="2383800">
                  <a:off x="4918320" y="3385080"/>
                  <a:ext cx="172080" cy="10476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2383800">
                  <a:off x="4895280" y="3374280"/>
                  <a:ext cx="55080" cy="5472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383800">
                  <a:off x="5053320" y="344484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0800" y="504720"/>
            <a:ext cx="7424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racing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800" y="1092240"/>
            <a:ext cx="8566200" cy="489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91280" y="5038560"/>
            <a:ext cx="1460520" cy="6382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3868560" y="4400640"/>
            <a:ext cx="1422720" cy="1390680"/>
            <a:chOff x="3868560" y="4400640"/>
            <a:chExt cx="1422720" cy="1390680"/>
          </a:xfrm>
        </p:grpSpPr>
        <p:sp>
          <p:nvSpPr>
            <p:cNvPr id="308" name=""/>
            <p:cNvSpPr/>
            <p:nvPr/>
          </p:nvSpPr>
          <p:spPr>
            <a:xfrm>
              <a:off x="3868560" y="4400640"/>
              <a:ext cx="1422720" cy="1390680"/>
            </a:xfrm>
            <a:prstGeom prst="octagon">
              <a:avLst>
                <a:gd name="adj" fmla="val 30644"/>
              </a:avLst>
            </a:prstGeom>
            <a:gradFill rotWithShape="0">
              <a:gsLst>
                <a:gs pos="0">
                  <a:srgbClr val="1c1100"/>
                </a:gs>
                <a:gs pos="50000">
                  <a:srgbClr val="ff9900"/>
                </a:gs>
                <a:gs pos="100000">
                  <a:srgbClr val="1c1100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37040" y="5002200"/>
              <a:ext cx="11210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321680" y="1863720"/>
            <a:ext cx="733320" cy="8683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601560" y="2023920"/>
            <a:ext cx="820800" cy="722520"/>
            <a:chOff x="601560" y="2023920"/>
            <a:chExt cx="820800" cy="722520"/>
          </a:xfrm>
        </p:grpSpPr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601560" y="2023920"/>
              <a:ext cx="82080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65080" y="2070000"/>
              <a:ext cx="315000" cy="2631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390680" y="1262160"/>
            <a:ext cx="1650960" cy="1116000"/>
          </a:xfrm>
          <a:prstGeom prst="rect">
            <a:avLst/>
          </a:prstGeom>
          <a:gradFill rotWithShape="0">
            <a:gsLst>
              <a:gs pos="0">
                <a:srgbClr val="232323"/>
              </a:gs>
              <a:gs pos="50000">
                <a:srgbClr val="4d4d4d"/>
              </a:gs>
              <a:gs pos="100000">
                <a:srgbClr val="2323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74640" y="1370160"/>
            <a:ext cx="123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I/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06880" y="2058840"/>
            <a:ext cx="1640520" cy="608040"/>
            <a:chOff x="1406880" y="2058840"/>
            <a:chExt cx="1640520" cy="608040"/>
          </a:xfrm>
        </p:grpSpPr>
        <p:sp>
          <p:nvSpPr>
            <p:cNvPr id="317" name=""/>
            <p:cNvSpPr/>
            <p:nvPr/>
          </p:nvSpPr>
          <p:spPr>
            <a:xfrm>
              <a:off x="1458720" y="2058840"/>
              <a:ext cx="1511280" cy="608040"/>
            </a:xfrm>
            <a:prstGeom prst="rect">
              <a:avLst/>
            </a:prstGeom>
            <a:gradFill rotWithShape="0">
              <a:gsLst>
                <a:gs pos="0">
                  <a:srgbClr val="1c1100"/>
                </a:gs>
                <a:gs pos="50000">
                  <a:srgbClr val="ff9900"/>
                </a:gs>
                <a:gs pos="100000">
                  <a:srgbClr val="1c1100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06880" y="2209320"/>
              <a:ext cx="1640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roker Stu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14880" y="2616120"/>
            <a:ext cx="919800" cy="909720"/>
            <a:chOff x="614880" y="2616120"/>
            <a:chExt cx="919800" cy="909720"/>
          </a:xfrm>
        </p:grpSpPr>
        <p:pic>
          <p:nvPicPr>
            <p:cNvPr id="320" name="" descr=""/>
            <p:cNvPicPr/>
            <p:nvPr/>
          </p:nvPicPr>
          <p:blipFill>
            <a:blip r:embed="rId4"/>
            <a:stretch/>
          </p:blipFill>
          <p:spPr>
            <a:xfrm>
              <a:off x="692640" y="2616120"/>
              <a:ext cx="84204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14880" y="2787480"/>
              <a:ext cx="8449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ublog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284720" y="2077920"/>
            <a:ext cx="1440" cy="1158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15080" y="1328760"/>
            <a:ext cx="1562040" cy="1116000"/>
          </a:xfrm>
          <a:prstGeom prst="rect">
            <a:avLst/>
          </a:prstGeom>
          <a:gradFill rotWithShape="0">
            <a:gsLst>
              <a:gs pos="0">
                <a:srgbClr val="232323"/>
              </a:gs>
              <a:gs pos="50000">
                <a:srgbClr val="4d4d4d"/>
              </a:gs>
              <a:gs pos="100000">
                <a:srgbClr val="2323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86440" y="1459080"/>
            <a:ext cx="123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I/RPC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812200" y="2178000"/>
            <a:ext cx="1640520" cy="608040"/>
            <a:chOff x="5812200" y="2178000"/>
            <a:chExt cx="1640520" cy="608040"/>
          </a:xfrm>
        </p:grpSpPr>
        <p:sp>
          <p:nvSpPr>
            <p:cNvPr id="326" name=""/>
            <p:cNvSpPr/>
            <p:nvPr/>
          </p:nvSpPr>
          <p:spPr>
            <a:xfrm>
              <a:off x="5864040" y="2178000"/>
              <a:ext cx="1511280" cy="608040"/>
            </a:xfrm>
            <a:prstGeom prst="rect">
              <a:avLst/>
            </a:prstGeom>
            <a:gradFill rotWithShape="0">
              <a:gsLst>
                <a:gs pos="0">
                  <a:srgbClr val="1c1100"/>
                </a:gs>
                <a:gs pos="50000">
                  <a:srgbClr val="ff9900"/>
                </a:gs>
                <a:gs pos="100000">
                  <a:srgbClr val="1c1100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2200" y="2328480"/>
              <a:ext cx="1640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Broker Stu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783760" y="2763720"/>
            <a:ext cx="946800" cy="909720"/>
            <a:chOff x="5783760" y="2763720"/>
            <a:chExt cx="946800" cy="909720"/>
          </a:xfrm>
        </p:grpSpPr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5843880" y="2763720"/>
              <a:ext cx="88668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783760" y="2935080"/>
              <a:ext cx="8449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ublog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38840" y="2055960"/>
            <a:ext cx="871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43520" y="2071800"/>
            <a:ext cx="1440" cy="1170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522560" y="1087560"/>
            <a:ext cx="834120" cy="909360"/>
            <a:chOff x="7522560" y="1087560"/>
            <a:chExt cx="834120" cy="909360"/>
          </a:xfrm>
        </p:grpSpPr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7571160" y="1087560"/>
              <a:ext cx="78552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22560" y="1258560"/>
              <a:ext cx="73980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027240" y="2060640"/>
            <a:ext cx="128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88240" y="1092240"/>
            <a:ext cx="794520" cy="909720"/>
            <a:chOff x="588240" y="1092240"/>
            <a:chExt cx="794520" cy="909720"/>
          </a:xfrm>
        </p:grpSpPr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597240" y="1092240"/>
              <a:ext cx="7855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8240" y="1263600"/>
              <a:ext cx="65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RX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8309880" y="1092240"/>
            <a:ext cx="794520" cy="909720"/>
            <a:chOff x="8309880" y="1092240"/>
            <a:chExt cx="794520" cy="909720"/>
          </a:xfrm>
        </p:grpSpPr>
        <p:pic>
          <p:nvPicPr>
            <p:cNvPr id="341" name="" descr=""/>
            <p:cNvPicPr/>
            <p:nvPr/>
          </p:nvPicPr>
          <p:blipFill>
            <a:blip r:embed="rId8"/>
            <a:stretch/>
          </p:blipFill>
          <p:spPr>
            <a:xfrm>
              <a:off x="8318880" y="1092240"/>
              <a:ext cx="7855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09880" y="1263600"/>
              <a:ext cx="65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RX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540800" y="2616120"/>
            <a:ext cx="794520" cy="909720"/>
            <a:chOff x="1540800" y="2616120"/>
            <a:chExt cx="794520" cy="909720"/>
          </a:xfrm>
        </p:grpSpPr>
        <p:pic>
          <p:nvPicPr>
            <p:cNvPr id="344" name="" descr=""/>
            <p:cNvPicPr/>
            <p:nvPr/>
          </p:nvPicPr>
          <p:blipFill>
            <a:blip r:embed="rId9"/>
            <a:stretch/>
          </p:blipFill>
          <p:spPr>
            <a:xfrm>
              <a:off x="1549800" y="2616120"/>
              <a:ext cx="7855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540800" y="2787480"/>
              <a:ext cx="6591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CI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684120" y="2755800"/>
            <a:ext cx="794520" cy="909720"/>
            <a:chOff x="6684120" y="2755800"/>
            <a:chExt cx="794520" cy="909720"/>
          </a:xfrm>
        </p:grpSpPr>
        <p:pic>
          <p:nvPicPr>
            <p:cNvPr id="347" name="" descr=""/>
            <p:cNvPicPr/>
            <p:nvPr/>
          </p:nvPicPr>
          <p:blipFill>
            <a:blip r:embed="rId10"/>
            <a:stretch/>
          </p:blipFill>
          <p:spPr>
            <a:xfrm>
              <a:off x="6693120" y="2755800"/>
              <a:ext cx="7855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684120" y="2927160"/>
              <a:ext cx="6591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CI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2840" y="4025880"/>
            <a:ext cx="258840" cy="12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2840" y="4208400"/>
            <a:ext cx="736560" cy="801720"/>
            <a:chOff x="42840" y="4208400"/>
            <a:chExt cx="736560" cy="801720"/>
          </a:xfrm>
        </p:grpSpPr>
        <p:sp>
          <p:nvSpPr>
            <p:cNvPr id="351" name=""/>
            <p:cNvSpPr/>
            <p:nvPr/>
          </p:nvSpPr>
          <p:spPr>
            <a:xfrm>
              <a:off x="42840" y="4208400"/>
              <a:ext cx="736560" cy="801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28160" y="4214520"/>
              <a:ext cx="565200" cy="788760"/>
              <a:chOff x="128160" y="4214520"/>
              <a:chExt cx="565200" cy="788760"/>
            </a:xfrm>
          </p:grpSpPr>
          <p:sp>
            <p:nvSpPr>
              <p:cNvPr id="353" name=""/>
              <p:cNvSpPr/>
              <p:nvPr/>
            </p:nvSpPr>
            <p:spPr>
              <a:xfrm>
                <a:off x="411480" y="4214520"/>
                <a:ext cx="0" cy="78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1320" y="422388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2600" y="4240080"/>
                <a:ext cx="0" cy="73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2800" y="4285080"/>
                <a:ext cx="0" cy="64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3360" y="4359240"/>
                <a:ext cx="0" cy="49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0200" y="422388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7480" y="4244760"/>
                <a:ext cx="0" cy="72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7280" y="4293360"/>
                <a:ext cx="0" cy="63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8160" y="4369680"/>
                <a:ext cx="0" cy="47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4280" y="4297680"/>
              <a:ext cx="732600" cy="621720"/>
              <a:chOff x="44280" y="4297680"/>
              <a:chExt cx="732600" cy="62172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44280" y="4607640"/>
                <a:ext cx="73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2920" y="4685760"/>
                <a:ext cx="71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5880" y="4764240"/>
                <a:ext cx="68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08720" y="4842000"/>
                <a:ext cx="60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73880" y="4919400"/>
                <a:ext cx="470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2920" y="4530600"/>
                <a:ext cx="71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2720" y="4451760"/>
                <a:ext cx="67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117000" y="4375440"/>
                <a:ext cx="58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85760" y="4297680"/>
                <a:ext cx="45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708120" y="4000680"/>
            <a:ext cx="1079280" cy="1130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854360" y="4016520"/>
            <a:ext cx="1833480" cy="1535760"/>
            <a:chOff x="1854360" y="4016520"/>
            <a:chExt cx="1833480" cy="1535760"/>
          </a:xfrm>
        </p:grpSpPr>
        <p:sp>
          <p:nvSpPr>
            <p:cNvPr id="374" name=""/>
            <p:cNvSpPr/>
            <p:nvPr/>
          </p:nvSpPr>
          <p:spPr>
            <a:xfrm>
              <a:off x="1854360" y="4584600"/>
              <a:ext cx="736560" cy="9144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1777680" y="4785480"/>
              <a:ext cx="8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</a:rPr>
                <a:t>Serv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3800" y="5119560"/>
              <a:ext cx="108144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686040" y="4016520"/>
              <a:ext cx="1800" cy="1103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422800" y="4584600"/>
              <a:ext cx="861840" cy="909720"/>
              <a:chOff x="2422800" y="4584600"/>
              <a:chExt cx="861840" cy="909720"/>
            </a:xfrm>
          </p:grpSpPr>
          <p:pic>
            <p:nvPicPr>
              <p:cNvPr id="3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98760" y="4584600"/>
                <a:ext cx="78588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2422800" y="4755960"/>
                <a:ext cx="793080" cy="66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XML</a:t>
                </a:r>
                <a:br>
                  <a:rPr sz="14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untime</a:t>
                </a:r>
                <a:br>
                  <a:rPr sz="14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Tra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493040" y="4317840"/>
            <a:ext cx="1079280" cy="1442880"/>
            <a:chOff x="7493040" y="4317840"/>
            <a:chExt cx="1079280" cy="1442880"/>
          </a:xfrm>
        </p:grpSpPr>
        <p:sp>
          <p:nvSpPr>
            <p:cNvPr id="382" name=""/>
            <p:cNvSpPr/>
            <p:nvPr/>
          </p:nvSpPr>
          <p:spPr>
            <a:xfrm>
              <a:off x="7493040" y="4317840"/>
              <a:ext cx="1079280" cy="736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2"/>
            <a:stretch/>
          </p:blipFill>
          <p:spPr>
            <a:xfrm>
              <a:off x="7648560" y="4402080"/>
              <a:ext cx="812880" cy="517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7693560" y="4978440"/>
              <a:ext cx="794880" cy="782280"/>
              <a:chOff x="7693560" y="4978440"/>
              <a:chExt cx="794880" cy="7822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702560" y="4978440"/>
                <a:ext cx="785880" cy="78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7693560" y="5125680"/>
                <a:ext cx="6591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SMH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ra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3660840" y="2881440"/>
            <a:ext cx="1812960" cy="1771560"/>
            <a:chOff x="3660840" y="2881440"/>
            <a:chExt cx="1812960" cy="1771560"/>
          </a:xfrm>
        </p:grpSpPr>
        <p:sp>
          <p:nvSpPr>
            <p:cNvPr id="388" name=""/>
            <p:cNvSpPr/>
            <p:nvPr/>
          </p:nvSpPr>
          <p:spPr>
            <a:xfrm>
              <a:off x="3660840" y="2881440"/>
              <a:ext cx="1812960" cy="1771560"/>
            </a:xfrm>
            <a:prstGeom prst="octagon">
              <a:avLst>
                <a:gd name="adj" fmla="val 30644"/>
              </a:avLst>
            </a:prstGeom>
            <a:gradFill rotWithShape="0">
              <a:gsLst>
                <a:gs pos="0">
                  <a:srgbClr val="1c1100"/>
                </a:gs>
                <a:gs pos="50000">
                  <a:srgbClr val="ff9900"/>
                </a:gs>
                <a:gs pos="100000">
                  <a:srgbClr val="1c1100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49200" y="3870360"/>
              <a:ext cx="13294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4"/>
            <a:stretch/>
          </p:blipFill>
          <p:spPr>
            <a:xfrm>
              <a:off x="4118040" y="3068640"/>
              <a:ext cx="919080" cy="79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6103080" y="4132440"/>
            <a:ext cx="940680" cy="853920"/>
            <a:chOff x="6103080" y="4132440"/>
            <a:chExt cx="940680" cy="853920"/>
          </a:xfrm>
        </p:grpSpPr>
        <p:pic>
          <p:nvPicPr>
            <p:cNvPr id="392" name="" descr=""/>
            <p:cNvPicPr/>
            <p:nvPr/>
          </p:nvPicPr>
          <p:blipFill>
            <a:blip r:embed="rId15"/>
            <a:stretch/>
          </p:blipFill>
          <p:spPr>
            <a:xfrm>
              <a:off x="6175440" y="4132440"/>
              <a:ext cx="8683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103080" y="4432320"/>
              <a:ext cx="808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ntir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30280" y="2616120"/>
            <a:ext cx="842760" cy="909720"/>
            <a:chOff x="2330280" y="2616120"/>
            <a:chExt cx="842760" cy="909720"/>
          </a:xfrm>
        </p:grpSpPr>
        <p:pic>
          <p:nvPicPr>
            <p:cNvPr id="395" name="" descr=""/>
            <p:cNvPicPr/>
            <p:nvPr/>
          </p:nvPicPr>
          <p:blipFill>
            <a:blip r:embed="rId16"/>
            <a:stretch/>
          </p:blipFill>
          <p:spPr>
            <a:xfrm>
              <a:off x="2330280" y="2616120"/>
              <a:ext cx="8427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344320" y="2787480"/>
              <a:ext cx="65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T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435800" y="2755800"/>
            <a:ext cx="842760" cy="909720"/>
            <a:chOff x="7435800" y="2755800"/>
            <a:chExt cx="842760" cy="909720"/>
          </a:xfrm>
        </p:grpSpPr>
        <p:pic>
          <p:nvPicPr>
            <p:cNvPr id="398" name="" descr=""/>
            <p:cNvPicPr/>
            <p:nvPr/>
          </p:nvPicPr>
          <p:blipFill>
            <a:blip r:embed="rId17"/>
            <a:stretch/>
          </p:blipFill>
          <p:spPr>
            <a:xfrm>
              <a:off x="7435800" y="2755800"/>
              <a:ext cx="84276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449840" y="2927160"/>
              <a:ext cx="65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T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187960" y="3206880"/>
            <a:ext cx="842760" cy="909360"/>
            <a:chOff x="5187960" y="3206880"/>
            <a:chExt cx="842760" cy="909360"/>
          </a:xfrm>
        </p:grpSpPr>
        <p:pic>
          <p:nvPicPr>
            <p:cNvPr id="401" name="" descr=""/>
            <p:cNvPicPr/>
            <p:nvPr/>
          </p:nvPicPr>
          <p:blipFill>
            <a:blip r:embed="rId18"/>
            <a:stretch/>
          </p:blipFill>
          <p:spPr>
            <a:xfrm>
              <a:off x="5187960" y="3206880"/>
              <a:ext cx="8427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202000" y="3377880"/>
              <a:ext cx="659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T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163840" y="4132440"/>
            <a:ext cx="939600" cy="853920"/>
            <a:chOff x="5163840" y="4132440"/>
            <a:chExt cx="939600" cy="853920"/>
          </a:xfrm>
        </p:grpSpPr>
        <p:pic>
          <p:nvPicPr>
            <p:cNvPr id="404" name="" descr=""/>
            <p:cNvPicPr/>
            <p:nvPr/>
          </p:nvPicPr>
          <p:blipFill>
            <a:blip r:embed="rId19"/>
            <a:stretch/>
          </p:blipFill>
          <p:spPr>
            <a:xfrm>
              <a:off x="5235480" y="4132440"/>
              <a:ext cx="8679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163840" y="4432320"/>
              <a:ext cx="7581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 rot="5400000">
            <a:off x="3493800" y="2738520"/>
            <a:ext cx="825480" cy="911160"/>
          </a:xfrm>
          <a:prstGeom prst="rtTriangle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861000">
            <a:off x="3356640" y="294408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lay M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0"/>
          <a:stretch/>
        </p:blipFill>
        <p:spPr>
          <a:xfrm>
            <a:off x="3133800" y="2119320"/>
            <a:ext cx="1106280" cy="668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968560" y="2238480"/>
            <a:ext cx="1174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lay Mgr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257280" y="4116240"/>
            <a:ext cx="1770480" cy="854280"/>
            <a:chOff x="3257280" y="4116240"/>
            <a:chExt cx="1770480" cy="854280"/>
          </a:xfrm>
        </p:grpSpPr>
        <p:grpSp>
          <p:nvGrpSpPr>
            <p:cNvPr id="411" name=""/>
            <p:cNvGrpSpPr/>
            <p:nvPr/>
          </p:nvGrpSpPr>
          <p:grpSpPr>
            <a:xfrm>
              <a:off x="4106520" y="4381560"/>
              <a:ext cx="921240" cy="318240"/>
              <a:chOff x="4106520" y="4381560"/>
              <a:chExt cx="921240" cy="318240"/>
            </a:xfrm>
          </p:grpSpPr>
          <p:sp>
            <p:nvSpPr>
              <p:cNvPr id="412" name=""/>
              <p:cNvSpPr/>
              <p:nvPr/>
            </p:nvSpPr>
            <p:spPr>
              <a:xfrm>
                <a:off x="4167360" y="4381560"/>
                <a:ext cx="749160" cy="253800"/>
              </a:xfrm>
              <a:prstGeom prst="rect">
                <a:avLst/>
              </a:prstGeom>
              <a:gradFill rotWithShape="0">
                <a:gsLst>
                  <a:gs pos="0">
                    <a:srgbClr val="003e69"/>
                  </a:gs>
                  <a:gs pos="50000">
                    <a:srgbClr val="0088e4"/>
                  </a:gs>
                  <a:gs pos="100000">
                    <a:srgbClr val="003e6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06520" y="4392720"/>
                <a:ext cx="92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USRS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257280" y="4116240"/>
              <a:ext cx="979920" cy="854280"/>
              <a:chOff x="3257280" y="4116240"/>
              <a:chExt cx="979920" cy="85428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343320" y="4116240"/>
                <a:ext cx="89388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3257280" y="4179960"/>
                <a:ext cx="887760" cy="7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Secur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Exi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ra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431640" y="2679840"/>
            <a:ext cx="8013960" cy="3327120"/>
          </a:xfrm>
          <a:prstGeom prst="upArrowCallout">
            <a:avLst>
              <a:gd name="adj1" fmla="val -11256"/>
              <a:gd name="adj2" fmla="val 19749"/>
              <a:gd name="adj3" fmla="val 12394"/>
              <a:gd name="adj4" fmla="val 53760"/>
            </a:avLst>
          </a:prstGeom>
          <a:gradFill rotWithShape="0">
            <a:gsLst>
              <a:gs pos="0">
                <a:srgbClr val="0045a0"/>
              </a:gs>
              <a:gs pos="50000">
                <a:srgbClr val="ffffff"/>
              </a:gs>
              <a:gs pos="100000">
                <a:srgbClr val="0045a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0280" y="3605040"/>
            <a:ext cx="447984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sible trace 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oker kernel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CP/IP Communicator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COM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rsistent Store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oker Security interface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46600" y="3833640"/>
            <a:ext cx="36068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s for each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ry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CI Control Blo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ireX Trace (Mainfram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81120" y="135900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83160" y="1079640"/>
            <a:ext cx="2361960" cy="888840"/>
          </a:xfrm>
          <a:prstGeom prst="wedgeRoundRectCallout">
            <a:avLst>
              <a:gd name="adj1" fmla="val -34611"/>
              <a:gd name="adj2" fmla="val 82319"/>
              <a:gd name="adj3" fmla="val 16667"/>
            </a:avLst>
          </a:prstGeom>
          <a:gradFill rotWithShape="0">
            <a:gsLst>
              <a:gs pos="0">
                <a:srgbClr val="0045a0"/>
              </a:gs>
              <a:gs pos="50000">
                <a:srgbClr val="ffffff"/>
              </a:gs>
              <a:gs pos="100000">
                <a:srgbClr val="0045a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68440" indent="-56844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213680" y="1066680"/>
            <a:ext cx="1239840" cy="1433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7307280" y="1230480"/>
            <a:ext cx="8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re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0360" y="1014480"/>
            <a:ext cx="24573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ce M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ff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01"/>
              </a:spcBef>
              <a:spcAft>
                <a:spcPts val="201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3520" y="1389240"/>
            <a:ext cx="2170080" cy="20444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36720" y="2506680"/>
          <a:ext cx="893520" cy="8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720" y="2506680"/>
                    <a:ext cx="8935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712080" y="149220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83280" y="2608200"/>
            <a:ext cx="2844720" cy="722520"/>
          </a:xfrm>
          <a:prstGeom prst="wedgeRectCallout">
            <a:avLst>
              <a:gd name="adj1" fmla="val 17412"/>
              <a:gd name="adj2" fmla="val -131097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57800" y="2712960"/>
            <a:ext cx="298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61800" indent="-361800">
              <a:spcBef>
                <a:spcPts val="176"/>
              </a:spcBef>
              <a:spcAft>
                <a:spcPts val="176"/>
              </a:spcAft>
              <a:buClr>
                <a:srgbClr val="3577d9"/>
              </a:buClr>
              <a:buFont typeface="Wingdings" charset="2"/>
              <a:buChar char="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/TRACE</a:t>
            </a:r>
            <a:r>
              <a:rPr b="1" lang="de-DE" sz="1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z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33600" y="2273400"/>
            <a:ext cx="4602240" cy="520560"/>
          </a:xfrm>
          <a:prstGeom prst="rightArrow">
            <a:avLst>
              <a:gd name="adj1" fmla="val 54880"/>
              <a:gd name="adj2" fmla="val 10220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0800" y="504720"/>
            <a:ext cx="7424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ireX Trace Classes (Mainfram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14760" y="2395440"/>
            <a:ext cx="5454360" cy="334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2960" y="1092240"/>
            <a:ext cx="8515440" cy="48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967120" y="1319040"/>
            <a:ext cx="833400" cy="801720"/>
            <a:chOff x="2967120" y="1319040"/>
            <a:chExt cx="833400" cy="801720"/>
          </a:xfrm>
        </p:grpSpPr>
        <p:sp>
          <p:nvSpPr>
            <p:cNvPr id="437" name=""/>
            <p:cNvSpPr/>
            <p:nvPr/>
          </p:nvSpPr>
          <p:spPr>
            <a:xfrm>
              <a:off x="2967120" y="1319040"/>
              <a:ext cx="833400" cy="801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063960" y="1325160"/>
              <a:ext cx="639360" cy="788760"/>
              <a:chOff x="3063960" y="1325160"/>
              <a:chExt cx="639360" cy="788760"/>
            </a:xfrm>
          </p:grpSpPr>
          <p:sp>
            <p:nvSpPr>
              <p:cNvPr id="439" name=""/>
              <p:cNvSpPr/>
              <p:nvPr/>
            </p:nvSpPr>
            <p:spPr>
              <a:xfrm>
                <a:off x="3384360" y="1325160"/>
                <a:ext cx="0" cy="78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63560" y="133452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44200" y="1350720"/>
                <a:ext cx="0" cy="73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23400" y="1395720"/>
                <a:ext cx="0" cy="64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03320" y="1469880"/>
                <a:ext cx="0" cy="49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03720" y="133452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221640" y="1355400"/>
                <a:ext cx="0" cy="72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42440" y="1404000"/>
                <a:ext cx="0" cy="63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3960" y="1480320"/>
                <a:ext cx="0" cy="47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968920" y="1408320"/>
              <a:ext cx="829080" cy="621720"/>
              <a:chOff x="2968920" y="1408320"/>
              <a:chExt cx="829080" cy="62172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2968920" y="1718280"/>
                <a:ext cx="82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978280" y="179640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993040" y="1874880"/>
                <a:ext cx="77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042360" y="1952640"/>
                <a:ext cx="68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3115800" y="20300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8280" y="164124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000960" y="1562400"/>
                <a:ext cx="76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051360" y="1486080"/>
                <a:ext cx="66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128760" y="1408320"/>
                <a:ext cx="5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3821040" y="1765440"/>
            <a:ext cx="154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78120" y="2476440"/>
            <a:ext cx="3560760" cy="3108240"/>
          </a:xfrm>
          <a:prstGeom prst="octagon">
            <a:avLst>
              <a:gd name="adj" fmla="val 0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933800" y="2590920"/>
            <a:ext cx="998640" cy="558720"/>
            <a:chOff x="4933800" y="2590920"/>
            <a:chExt cx="998640" cy="558720"/>
          </a:xfrm>
        </p:grpSpPr>
        <p:sp>
          <p:nvSpPr>
            <p:cNvPr id="461" name=""/>
            <p:cNvSpPr/>
            <p:nvPr/>
          </p:nvSpPr>
          <p:spPr>
            <a:xfrm>
              <a:off x="4951080" y="2590920"/>
              <a:ext cx="981360" cy="5587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33800" y="2671560"/>
              <a:ext cx="957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XCOM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282840" y="2608200"/>
            <a:ext cx="1333440" cy="520920"/>
            <a:chOff x="3282840" y="2608200"/>
            <a:chExt cx="1333440" cy="520920"/>
          </a:xfrm>
        </p:grpSpPr>
        <p:sp>
          <p:nvSpPr>
            <p:cNvPr id="464" name=""/>
            <p:cNvSpPr/>
            <p:nvPr/>
          </p:nvSpPr>
          <p:spPr>
            <a:xfrm>
              <a:off x="3487320" y="2608200"/>
              <a:ext cx="1125720" cy="5209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82840" y="2688480"/>
              <a:ext cx="13334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 flipV="1">
            <a:off x="2998800" y="3220560"/>
            <a:ext cx="3162240" cy="1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267080" y="3303720"/>
            <a:ext cx="626760" cy="1708920"/>
            <a:chOff x="4267080" y="3303720"/>
            <a:chExt cx="626760" cy="1708920"/>
          </a:xfrm>
        </p:grpSpPr>
        <p:sp>
          <p:nvSpPr>
            <p:cNvPr id="468" name=""/>
            <p:cNvSpPr/>
            <p:nvPr/>
          </p:nvSpPr>
          <p:spPr>
            <a:xfrm>
              <a:off x="4286160" y="3333240"/>
              <a:ext cx="607680" cy="167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04520" y="3303720"/>
              <a:ext cx="53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03800" y="4129920"/>
              <a:ext cx="5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7080" y="3968640"/>
              <a:ext cx="60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4429440" y="3641760"/>
              <a:ext cx="38196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4368600" y="4333680"/>
              <a:ext cx="496440" cy="67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3092400" y="3881520"/>
            <a:ext cx="914040" cy="608760"/>
            <a:chOff x="3092400" y="3881520"/>
            <a:chExt cx="914040" cy="608760"/>
          </a:xfrm>
        </p:grpSpPr>
        <p:sp>
          <p:nvSpPr>
            <p:cNvPr id="475" name=""/>
            <p:cNvSpPr/>
            <p:nvPr/>
          </p:nvSpPr>
          <p:spPr>
            <a:xfrm>
              <a:off x="3302280" y="4071960"/>
              <a:ext cx="704160" cy="418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4680" y="3996000"/>
              <a:ext cx="694800" cy="405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92400" y="3881520"/>
              <a:ext cx="771120" cy="41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or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022560" y="3336840"/>
            <a:ext cx="1093680" cy="4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87000" y="33876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46320" y="4549680"/>
            <a:ext cx="986040" cy="5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38840" y="4622760"/>
            <a:ext cx="842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start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65640" y="4427640"/>
            <a:ext cx="1028880" cy="71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75360" y="4478400"/>
            <a:ext cx="961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Persistent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tore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28720" y="4829040"/>
            <a:ext cx="1523880" cy="771840"/>
          </a:xfrm>
          <a:prstGeom prst="can">
            <a:avLst>
              <a:gd name="adj" fmla="val 17180"/>
            </a:avLst>
          </a:prstGeom>
          <a:gradFill rotWithShape="0">
            <a:gsLst>
              <a:gs pos="0">
                <a:srgbClr val="001f49"/>
              </a:gs>
              <a:gs pos="50000">
                <a:srgbClr val="0045a0"/>
              </a:gs>
              <a:gs pos="100000">
                <a:srgbClr val="001f4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faults Broker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TRACE-LEVEL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255680" y="3807000"/>
            <a:ext cx="1539720" cy="722160"/>
            <a:chOff x="1255680" y="3807000"/>
            <a:chExt cx="1539720" cy="722160"/>
          </a:xfrm>
        </p:grpSpPr>
        <p:sp>
          <p:nvSpPr>
            <p:cNvPr id="486" name=""/>
            <p:cNvSpPr/>
            <p:nvPr/>
          </p:nvSpPr>
          <p:spPr>
            <a:xfrm>
              <a:off x="1255680" y="3807000"/>
              <a:ext cx="1054080" cy="722160"/>
            </a:xfrm>
            <a:custGeom>
              <a:avLst/>
              <a:gdLst/>
              <a:ahLst/>
              <a:rect l="l" t="t" r="r" b="b"/>
              <a:pathLst>
                <a:path w="746" h="387">
                  <a:moveTo>
                    <a:pt x="106" y="2"/>
                  </a:moveTo>
                  <a:lnTo>
                    <a:pt x="745" y="0"/>
                  </a:lnTo>
                  <a:lnTo>
                    <a:pt x="745" y="386"/>
                  </a:lnTo>
                  <a:lnTo>
                    <a:pt x="0" y="386"/>
                  </a:lnTo>
                  <a:lnTo>
                    <a:pt x="0" y="122"/>
                  </a:lnTo>
                  <a:lnTo>
                    <a:pt x="106" y="2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53240" y="3913200"/>
              <a:ext cx="89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RACE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0800000">
              <a:off x="2338200" y="3992760"/>
              <a:ext cx="457200" cy="395280"/>
            </a:xfrm>
            <a:prstGeom prst="leftArrow">
              <a:avLst>
                <a:gd name="adj1" fmla="val 50000"/>
                <a:gd name="adj2" fmla="val 19395"/>
              </a:avLst>
            </a:prstGeom>
            <a:solidFill>
              <a:srgbClr val="0045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134040" y="4892760"/>
            <a:ext cx="9874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126840" y="5094360"/>
            <a:ext cx="8085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r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9280" y="1758960"/>
            <a:ext cx="1440" cy="851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53200" y="1752480"/>
            <a:ext cx="1440" cy="849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13280" y="5110200"/>
            <a:ext cx="116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59520" y="3411360"/>
            <a:ext cx="1028520" cy="71928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01280" y="3505320"/>
            <a:ext cx="897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2360520" y="5068800"/>
            <a:ext cx="457200" cy="395280"/>
          </a:xfrm>
          <a:prstGeom prst="leftArrow">
            <a:avLst>
              <a:gd name="adj1" fmla="val 50000"/>
              <a:gd name="adj2" fmla="val 19395"/>
            </a:avLst>
          </a:prstGeom>
          <a:solidFill>
            <a:srgbClr val="0045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00600" y="2089080"/>
            <a:ext cx="2265480" cy="374760"/>
          </a:xfrm>
          <a:prstGeom prst="wedgeRoundRectCallout">
            <a:avLst>
              <a:gd name="adj1" fmla="val -48666"/>
              <a:gd name="adj2" fmla="val 106777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X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760" y="2978280"/>
            <a:ext cx="2265480" cy="374400"/>
          </a:xfrm>
          <a:prstGeom prst="wedgeRoundRectCallout">
            <a:avLst>
              <a:gd name="adj1" fmla="val -47407"/>
              <a:gd name="adj2" fmla="val 106777"/>
              <a:gd name="adj3" fmla="val 16667"/>
            </a:avLst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E=CLASS(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29360" y="4125960"/>
            <a:ext cx="2265480" cy="374760"/>
          </a:xfrm>
          <a:prstGeom prst="wedgeRoundRectCallout">
            <a:avLst>
              <a:gd name="adj1" fmla="val -51541"/>
              <a:gd name="adj2" fmla="val 110592"/>
              <a:gd name="adj3" fmla="val 16667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E=CLASS(P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01840" y="2062080"/>
            <a:ext cx="2265120" cy="358920"/>
          </a:xfrm>
          <a:prstGeom prst="wedgeRoundRectCallout">
            <a:avLst>
              <a:gd name="adj1" fmla="val 47546"/>
              <a:gd name="adj2" fmla="val 12168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T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31880" y="2790720"/>
            <a:ext cx="2274840" cy="1017720"/>
            <a:chOff x="731880" y="2790720"/>
            <a:chExt cx="2274840" cy="1017720"/>
          </a:xfrm>
        </p:grpSpPr>
        <p:grpSp>
          <p:nvGrpSpPr>
            <p:cNvPr id="502" name=""/>
            <p:cNvGrpSpPr/>
            <p:nvPr/>
          </p:nvGrpSpPr>
          <p:grpSpPr>
            <a:xfrm>
              <a:off x="731880" y="2790720"/>
              <a:ext cx="2274840" cy="385560"/>
              <a:chOff x="731880" y="2790720"/>
              <a:chExt cx="2274840" cy="385560"/>
            </a:xfrm>
          </p:grpSpPr>
          <p:sp>
            <p:nvSpPr>
              <p:cNvPr id="503" name=""/>
              <p:cNvSpPr/>
              <p:nvPr/>
            </p:nvSpPr>
            <p:spPr>
              <a:xfrm>
                <a:off x="731880" y="2790720"/>
                <a:ext cx="2265480" cy="374400"/>
              </a:xfrm>
              <a:prstGeom prst="wedgeRoundRectCallout">
                <a:avLst>
                  <a:gd name="adj1" fmla="val 58898"/>
                  <a:gd name="adj2" fmla="val 453388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1600" y="2793600"/>
                <a:ext cx="2265120" cy="374760"/>
              </a:xfrm>
              <a:prstGeom prst="wedgeRoundRectCallout">
                <a:avLst>
                  <a:gd name="adj1" fmla="val 108652"/>
                  <a:gd name="adj2" fmla="val 137287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5120" y="2801520"/>
                <a:ext cx="2265480" cy="374760"/>
              </a:xfrm>
              <a:prstGeom prst="wedgeRoundRectCallout">
                <a:avLst>
                  <a:gd name="adj1" fmla="val 58268"/>
                  <a:gd name="adj2" fmla="val 272032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33680" y="2798640"/>
                <a:ext cx="2265120" cy="374400"/>
              </a:xfrm>
              <a:prstGeom prst="wedgeRoundRectCallout">
                <a:avLst>
                  <a:gd name="adj1" fmla="val 51962"/>
                  <a:gd name="adj2" fmla="val 113981"/>
                  <a:gd name="adj3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ACE=CLASS(ETB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TRACE=CLASS(DIAG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120760" y="3187440"/>
              <a:ext cx="62100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39880" y="3173400"/>
              <a:ext cx="15876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20760" y="3201840"/>
              <a:ext cx="793800" cy="606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72960" y="1092240"/>
            <a:ext cx="8515440" cy="489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0800" y="504720"/>
            <a:ext cx="74246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ireX Trace – Details (TYP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909880" y="1300320"/>
            <a:ext cx="833400" cy="801360"/>
            <a:chOff x="2909880" y="1300320"/>
            <a:chExt cx="833400" cy="801360"/>
          </a:xfrm>
        </p:grpSpPr>
        <p:sp>
          <p:nvSpPr>
            <p:cNvPr id="513" name=""/>
            <p:cNvSpPr/>
            <p:nvPr/>
          </p:nvSpPr>
          <p:spPr>
            <a:xfrm>
              <a:off x="2909880" y="1300320"/>
              <a:ext cx="833400" cy="80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006720" y="1306440"/>
              <a:ext cx="639360" cy="788400"/>
              <a:chOff x="3006720" y="1306440"/>
              <a:chExt cx="639360" cy="788400"/>
            </a:xfrm>
          </p:grpSpPr>
          <p:sp>
            <p:nvSpPr>
              <p:cNvPr id="515" name=""/>
              <p:cNvSpPr/>
              <p:nvPr/>
            </p:nvSpPr>
            <p:spPr>
              <a:xfrm>
                <a:off x="3327120" y="1306440"/>
                <a:ext cx="0" cy="78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06320" y="1315800"/>
                <a:ext cx="0" cy="76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86960" y="1332000"/>
                <a:ext cx="0" cy="73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566160" y="1377000"/>
                <a:ext cx="0" cy="64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46080" y="1451160"/>
                <a:ext cx="0" cy="49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246480" y="1315800"/>
                <a:ext cx="0" cy="76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64400" y="1336680"/>
                <a:ext cx="0" cy="72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85200" y="1384920"/>
                <a:ext cx="0" cy="63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06720" y="1461240"/>
                <a:ext cx="0" cy="47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911680" y="1389600"/>
              <a:ext cx="829080" cy="621360"/>
              <a:chOff x="2911680" y="1389600"/>
              <a:chExt cx="829080" cy="621360"/>
            </a:xfrm>
          </p:grpSpPr>
          <p:sp>
            <p:nvSpPr>
              <p:cNvPr id="525" name=""/>
              <p:cNvSpPr/>
              <p:nvPr/>
            </p:nvSpPr>
            <p:spPr>
              <a:xfrm flipH="1">
                <a:off x="2911680" y="1699560"/>
                <a:ext cx="82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921040" y="177732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2935800" y="1855800"/>
                <a:ext cx="77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2985120" y="1933920"/>
                <a:ext cx="68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058560" y="201096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921040" y="162216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943720" y="1543680"/>
                <a:ext cx="76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994120" y="1467360"/>
                <a:ext cx="66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71520" y="1389600"/>
                <a:ext cx="5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>
            <a:off x="3751200" y="1733400"/>
            <a:ext cx="1559160" cy="12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20880" y="2457360"/>
            <a:ext cx="3560760" cy="3333960"/>
          </a:xfrm>
          <a:prstGeom prst="octagon">
            <a:avLst>
              <a:gd name="adj" fmla="val 0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876920" y="2571840"/>
            <a:ext cx="997920" cy="558720"/>
            <a:chOff x="4876920" y="2571840"/>
            <a:chExt cx="997920" cy="558720"/>
          </a:xfrm>
        </p:grpSpPr>
        <p:sp>
          <p:nvSpPr>
            <p:cNvPr id="537" name=""/>
            <p:cNvSpPr/>
            <p:nvPr/>
          </p:nvSpPr>
          <p:spPr>
            <a:xfrm>
              <a:off x="4893840" y="2571840"/>
              <a:ext cx="981000" cy="5587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6920" y="2652480"/>
              <a:ext cx="956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XCOM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225960" y="2589120"/>
            <a:ext cx="1333440" cy="520920"/>
            <a:chOff x="3225960" y="2589120"/>
            <a:chExt cx="1333440" cy="520920"/>
          </a:xfrm>
        </p:grpSpPr>
        <p:sp>
          <p:nvSpPr>
            <p:cNvPr id="540" name=""/>
            <p:cNvSpPr/>
            <p:nvPr/>
          </p:nvSpPr>
          <p:spPr>
            <a:xfrm>
              <a:off x="3430440" y="2589120"/>
              <a:ext cx="1125720" cy="5209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25960" y="2669400"/>
              <a:ext cx="13334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2941560" y="3201480"/>
            <a:ext cx="3162240" cy="1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10200" y="3284640"/>
            <a:ext cx="626400" cy="1708920"/>
            <a:chOff x="4210200" y="3284640"/>
            <a:chExt cx="626400" cy="1708920"/>
          </a:xfrm>
        </p:grpSpPr>
        <p:sp>
          <p:nvSpPr>
            <p:cNvPr id="544" name=""/>
            <p:cNvSpPr/>
            <p:nvPr/>
          </p:nvSpPr>
          <p:spPr>
            <a:xfrm>
              <a:off x="4229280" y="3314160"/>
              <a:ext cx="607320" cy="167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47280" y="3284640"/>
              <a:ext cx="53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46920" y="4110840"/>
              <a:ext cx="5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10200" y="3949560"/>
              <a:ext cx="60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4372560" y="3622680"/>
              <a:ext cx="38160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4311720" y="4314600"/>
              <a:ext cx="496440" cy="67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3035160" y="3862440"/>
            <a:ext cx="914040" cy="608760"/>
            <a:chOff x="3035160" y="3862440"/>
            <a:chExt cx="914040" cy="608760"/>
          </a:xfrm>
        </p:grpSpPr>
        <p:sp>
          <p:nvSpPr>
            <p:cNvPr id="551" name=""/>
            <p:cNvSpPr/>
            <p:nvPr/>
          </p:nvSpPr>
          <p:spPr>
            <a:xfrm>
              <a:off x="3245040" y="4052880"/>
              <a:ext cx="704160" cy="418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87440" y="3976920"/>
              <a:ext cx="694800" cy="405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35160" y="3862440"/>
              <a:ext cx="771120" cy="41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or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965320" y="3317760"/>
            <a:ext cx="1094040" cy="4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29760" y="336852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89440" y="4530600"/>
            <a:ext cx="985680" cy="5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81600" y="4603680"/>
            <a:ext cx="842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start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08400" y="4408560"/>
            <a:ext cx="1028880" cy="71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18480" y="4459320"/>
            <a:ext cx="961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Persistent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tore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71480" y="5078520"/>
            <a:ext cx="1523880" cy="771480"/>
          </a:xfrm>
          <a:prstGeom prst="can">
            <a:avLst>
              <a:gd name="adj" fmla="val 17180"/>
            </a:avLst>
          </a:prstGeom>
          <a:gradFill rotWithShape="0">
            <a:gsLst>
              <a:gs pos="0">
                <a:srgbClr val="001f49"/>
              </a:gs>
              <a:gs pos="50000">
                <a:srgbClr val="0045a0"/>
              </a:gs>
              <a:gs pos="100000">
                <a:srgbClr val="001f4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faults Broker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TRACE-LEVEL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241280" y="4114800"/>
            <a:ext cx="1539720" cy="722160"/>
            <a:chOff x="1241280" y="4114800"/>
            <a:chExt cx="1539720" cy="722160"/>
          </a:xfrm>
        </p:grpSpPr>
        <p:sp>
          <p:nvSpPr>
            <p:cNvPr id="562" name=""/>
            <p:cNvSpPr/>
            <p:nvPr/>
          </p:nvSpPr>
          <p:spPr>
            <a:xfrm>
              <a:off x="1241280" y="4114800"/>
              <a:ext cx="1054080" cy="722160"/>
            </a:xfrm>
            <a:custGeom>
              <a:avLst/>
              <a:gdLst/>
              <a:ahLst/>
              <a:rect l="l" t="t" r="r" b="b"/>
              <a:pathLst>
                <a:path w="746" h="387">
                  <a:moveTo>
                    <a:pt x="106" y="2"/>
                  </a:moveTo>
                  <a:lnTo>
                    <a:pt x="745" y="0"/>
                  </a:lnTo>
                  <a:lnTo>
                    <a:pt x="745" y="386"/>
                  </a:lnTo>
                  <a:lnTo>
                    <a:pt x="0" y="386"/>
                  </a:lnTo>
                  <a:lnTo>
                    <a:pt x="0" y="122"/>
                  </a:lnTo>
                  <a:lnTo>
                    <a:pt x="106" y="2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38840" y="4221000"/>
              <a:ext cx="89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TRACE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0800000">
              <a:off x="2323800" y="4300560"/>
              <a:ext cx="457200" cy="395280"/>
            </a:xfrm>
            <a:prstGeom prst="leftArrow">
              <a:avLst>
                <a:gd name="adj1" fmla="val 50000"/>
                <a:gd name="adj2" fmla="val 19395"/>
              </a:avLst>
            </a:prstGeom>
            <a:solidFill>
              <a:srgbClr val="0045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902040" y="1752480"/>
            <a:ext cx="1800" cy="838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95960" y="1733400"/>
            <a:ext cx="1440" cy="849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65360" y="5299200"/>
            <a:ext cx="2146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02280" y="3392640"/>
            <a:ext cx="1028520" cy="71892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44040" y="3486240"/>
            <a:ext cx="897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800000">
            <a:off x="2303640" y="5318280"/>
            <a:ext cx="457200" cy="395280"/>
          </a:xfrm>
          <a:prstGeom prst="leftArrow">
            <a:avLst>
              <a:gd name="adj1" fmla="val 50000"/>
              <a:gd name="adj2" fmla="val 19395"/>
            </a:avLst>
          </a:prstGeom>
          <a:solidFill>
            <a:srgbClr val="0045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3880" y="2043000"/>
            <a:ext cx="2986200" cy="358920"/>
          </a:xfrm>
          <a:prstGeom prst="wedgeRoundRectCallout">
            <a:avLst>
              <a:gd name="adj1" fmla="val 48138"/>
              <a:gd name="adj2" fmla="val 121680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TCP),TYPE=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852480" y="2793960"/>
            <a:ext cx="2597040" cy="879480"/>
            <a:chOff x="852480" y="2793960"/>
            <a:chExt cx="2597040" cy="879480"/>
          </a:xfrm>
        </p:grpSpPr>
        <p:sp>
          <p:nvSpPr>
            <p:cNvPr id="573" name=""/>
            <p:cNvSpPr/>
            <p:nvPr/>
          </p:nvSpPr>
          <p:spPr>
            <a:xfrm>
              <a:off x="852480" y="2879640"/>
              <a:ext cx="1514520" cy="79380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of all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ain rout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81040" y="2793960"/>
              <a:ext cx="1068480" cy="317520"/>
            </a:xfrm>
            <a:prstGeom prst="leftArrow">
              <a:avLst>
                <a:gd name="adj1" fmla="val 50000"/>
                <a:gd name="adj2" fmla="val 84127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840280" y="2513160"/>
            <a:ext cx="2508120" cy="1225440"/>
            <a:chOff x="5840280" y="2513160"/>
            <a:chExt cx="2508120" cy="1225440"/>
          </a:xfrm>
        </p:grpSpPr>
        <p:sp>
          <p:nvSpPr>
            <p:cNvPr id="576" name=""/>
            <p:cNvSpPr/>
            <p:nvPr/>
          </p:nvSpPr>
          <p:spPr>
            <a:xfrm>
              <a:off x="6834240" y="2513160"/>
              <a:ext cx="1514160" cy="122544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ce of all rout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840280" y="2520360"/>
              <a:ext cx="1087560" cy="657000"/>
              <a:chOff x="5840280" y="2520360"/>
              <a:chExt cx="1087560" cy="657000"/>
            </a:xfrm>
          </p:grpSpPr>
          <p:sp>
            <p:nvSpPr>
              <p:cNvPr id="578" name=""/>
              <p:cNvSpPr/>
              <p:nvPr/>
            </p:nvSpPr>
            <p:spPr>
              <a:xfrm rot="10800000">
                <a:off x="5851440" y="2728080"/>
                <a:ext cx="1068480" cy="231480"/>
              </a:xfrm>
              <a:prstGeom prst="leftArrow">
                <a:avLst>
                  <a:gd name="adj1" fmla="val 50000"/>
                  <a:gd name="adj2" fmla="val 115397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0800000">
                <a:off x="5859360" y="2520360"/>
                <a:ext cx="1068480" cy="245880"/>
              </a:xfrm>
              <a:prstGeom prst="leftArrow">
                <a:avLst>
                  <a:gd name="adj1" fmla="val 50000"/>
                  <a:gd name="adj2" fmla="val 108638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0800000">
                <a:off x="5840280" y="2949120"/>
                <a:ext cx="1052640" cy="228240"/>
              </a:xfrm>
              <a:prstGeom prst="leftArrow">
                <a:avLst>
                  <a:gd name="adj1" fmla="val 50000"/>
                  <a:gd name="adj2" fmla="val 115300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5840280" y="4430880"/>
            <a:ext cx="2508120" cy="1225440"/>
            <a:chOff x="5840280" y="4430880"/>
            <a:chExt cx="2508120" cy="1225440"/>
          </a:xfrm>
        </p:grpSpPr>
        <p:sp>
          <p:nvSpPr>
            <p:cNvPr id="582" name=""/>
            <p:cNvSpPr/>
            <p:nvPr/>
          </p:nvSpPr>
          <p:spPr>
            <a:xfrm>
              <a:off x="6834240" y="4430880"/>
              <a:ext cx="1514160" cy="122544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only in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rror c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840280" y="4438080"/>
              <a:ext cx="1087560" cy="657000"/>
              <a:chOff x="5840280" y="4438080"/>
              <a:chExt cx="1087560" cy="657000"/>
            </a:xfrm>
          </p:grpSpPr>
          <p:sp>
            <p:nvSpPr>
              <p:cNvPr id="584" name=""/>
              <p:cNvSpPr/>
              <p:nvPr/>
            </p:nvSpPr>
            <p:spPr>
              <a:xfrm rot="10800000">
                <a:off x="5851440" y="4645800"/>
                <a:ext cx="1068480" cy="231480"/>
              </a:xfrm>
              <a:prstGeom prst="leftArrow">
                <a:avLst>
                  <a:gd name="adj1" fmla="val 50000"/>
                  <a:gd name="adj2" fmla="val 115397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0800000">
                <a:off x="5859360" y="4438080"/>
                <a:ext cx="1068480" cy="245880"/>
              </a:xfrm>
              <a:prstGeom prst="leftArrow">
                <a:avLst>
                  <a:gd name="adj1" fmla="val 50000"/>
                  <a:gd name="adj2" fmla="val 108638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0800000">
                <a:off x="5840280" y="4866840"/>
                <a:ext cx="1052640" cy="228240"/>
              </a:xfrm>
              <a:prstGeom prst="leftArrow">
                <a:avLst>
                  <a:gd name="adj1" fmla="val 50000"/>
                  <a:gd name="adj2" fmla="val 115300"/>
                </a:avLst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5513400" y="3886200"/>
            <a:ext cx="3189240" cy="345960"/>
          </a:xfrm>
          <a:prstGeom prst="wedgeRoundRectCallout">
            <a:avLst>
              <a:gd name="adj1" fmla="val -44972"/>
              <a:gd name="adj2" fmla="val 207796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XCOM),TYPE=(ER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2070000"/>
            <a:ext cx="3189240" cy="346320"/>
          </a:xfrm>
          <a:prstGeom prst="wedgeRoundRectCallout">
            <a:avLst>
              <a:gd name="adj1" fmla="val -44972"/>
              <a:gd name="adj2" fmla="val 119726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XCOM),TYPE=(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y default, the PSF, TCP, XCOM, and SEC trace types are normally “commented out” in the startup parameter file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o use these trace types, “uncomment” the type and stop and re-start Broker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Kernel Trace Fac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Dave Hupp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Software A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System Engineering Servi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Advisory System Engine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03-249-236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David.Hupp@softwareagusa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562720" y="4259160"/>
          <a:ext cx="306540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259160"/>
                    <a:ext cx="30654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72960" y="1092240"/>
            <a:ext cx="8515440" cy="489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20800" y="504720"/>
            <a:ext cx="7632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ireX Trace – Details (BUFS,BL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56160" y="1727280"/>
            <a:ext cx="154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12880" y="2438280"/>
            <a:ext cx="3560760" cy="3346560"/>
          </a:xfrm>
          <a:prstGeom prst="octagon">
            <a:avLst>
              <a:gd name="adj" fmla="val 0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68920" y="2552760"/>
            <a:ext cx="998640" cy="558720"/>
            <a:chOff x="4768920" y="2552760"/>
            <a:chExt cx="998640" cy="558720"/>
          </a:xfrm>
        </p:grpSpPr>
        <p:sp>
          <p:nvSpPr>
            <p:cNvPr id="598" name=""/>
            <p:cNvSpPr/>
            <p:nvPr/>
          </p:nvSpPr>
          <p:spPr>
            <a:xfrm>
              <a:off x="4786200" y="2552760"/>
              <a:ext cx="981360" cy="5587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68920" y="2633400"/>
              <a:ext cx="9572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XCOM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117960" y="2570040"/>
            <a:ext cx="1333440" cy="520920"/>
            <a:chOff x="3117960" y="2570040"/>
            <a:chExt cx="1333440" cy="520920"/>
          </a:xfrm>
        </p:grpSpPr>
        <p:sp>
          <p:nvSpPr>
            <p:cNvPr id="601" name=""/>
            <p:cNvSpPr/>
            <p:nvPr/>
          </p:nvSpPr>
          <p:spPr>
            <a:xfrm>
              <a:off x="3322440" y="2570040"/>
              <a:ext cx="1125720" cy="5209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17960" y="2650320"/>
              <a:ext cx="13334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flipV="1">
            <a:off x="2833560" y="3182400"/>
            <a:ext cx="3162600" cy="1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102200" y="3265560"/>
            <a:ext cx="626760" cy="1708920"/>
            <a:chOff x="4102200" y="3265560"/>
            <a:chExt cx="626760" cy="1708920"/>
          </a:xfrm>
        </p:grpSpPr>
        <p:sp>
          <p:nvSpPr>
            <p:cNvPr id="605" name=""/>
            <p:cNvSpPr/>
            <p:nvPr/>
          </p:nvSpPr>
          <p:spPr>
            <a:xfrm>
              <a:off x="4121280" y="3295080"/>
              <a:ext cx="607680" cy="167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39640" y="3265560"/>
              <a:ext cx="53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38920" y="4091760"/>
              <a:ext cx="5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2200" y="3930480"/>
              <a:ext cx="60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1"/>
            <a:stretch/>
          </p:blipFill>
          <p:spPr>
            <a:xfrm>
              <a:off x="4264560" y="3603600"/>
              <a:ext cx="38196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2"/>
            <a:stretch/>
          </p:blipFill>
          <p:spPr>
            <a:xfrm>
              <a:off x="4203720" y="4295520"/>
              <a:ext cx="496440" cy="67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2927520" y="3843360"/>
            <a:ext cx="914040" cy="608760"/>
            <a:chOff x="2927520" y="3843360"/>
            <a:chExt cx="914040" cy="608760"/>
          </a:xfrm>
        </p:grpSpPr>
        <p:sp>
          <p:nvSpPr>
            <p:cNvPr id="612" name=""/>
            <p:cNvSpPr/>
            <p:nvPr/>
          </p:nvSpPr>
          <p:spPr>
            <a:xfrm>
              <a:off x="3137400" y="4033800"/>
              <a:ext cx="704160" cy="418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79800" y="3957840"/>
              <a:ext cx="694800" cy="405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27520" y="3843360"/>
              <a:ext cx="771120" cy="41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or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857680" y="3298680"/>
            <a:ext cx="1093680" cy="4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21760" y="33498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81440" y="4511520"/>
            <a:ext cx="985680" cy="5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73600" y="4584600"/>
            <a:ext cx="842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Restart</a:t>
            </a:r>
            <a:br>
              <a:rPr sz="1300"/>
            </a:b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00760" y="4389480"/>
            <a:ext cx="1028520" cy="71892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10480" y="4440240"/>
            <a:ext cx="961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Persistent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tore</a:t>
            </a:r>
            <a:br>
              <a:rPr sz="1300"/>
            </a:b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63480" y="5052960"/>
            <a:ext cx="1524240" cy="771480"/>
          </a:xfrm>
          <a:prstGeom prst="can">
            <a:avLst>
              <a:gd name="adj" fmla="val 17180"/>
            </a:avLst>
          </a:prstGeom>
          <a:gradFill rotWithShape="0">
            <a:gsLst>
              <a:gs pos="0">
                <a:srgbClr val="001f49"/>
              </a:gs>
              <a:gs pos="50000">
                <a:srgbClr val="0045a0"/>
              </a:gs>
              <a:gs pos="100000">
                <a:srgbClr val="001f4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faults Broker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66"/>
                </a:solidFill>
                <a:latin typeface="Arial"/>
              </a:rPr>
              <a:t>TRACE-LEVEL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0680" y="4189320"/>
            <a:ext cx="1539720" cy="722160"/>
            <a:chOff x="1120680" y="4189320"/>
            <a:chExt cx="1539720" cy="722160"/>
          </a:xfrm>
        </p:grpSpPr>
        <p:sp>
          <p:nvSpPr>
            <p:cNvPr id="623" name=""/>
            <p:cNvSpPr/>
            <p:nvPr/>
          </p:nvSpPr>
          <p:spPr>
            <a:xfrm>
              <a:off x="1120680" y="4189320"/>
              <a:ext cx="1054080" cy="722160"/>
            </a:xfrm>
            <a:custGeom>
              <a:avLst/>
              <a:gdLst/>
              <a:ahLst/>
              <a:rect l="l" t="t" r="r" b="b"/>
              <a:pathLst>
                <a:path w="746" h="387">
                  <a:moveTo>
                    <a:pt x="106" y="2"/>
                  </a:moveTo>
                  <a:lnTo>
                    <a:pt x="745" y="0"/>
                  </a:lnTo>
                  <a:lnTo>
                    <a:pt x="745" y="386"/>
                  </a:lnTo>
                  <a:lnTo>
                    <a:pt x="0" y="386"/>
                  </a:lnTo>
                  <a:lnTo>
                    <a:pt x="0" y="122"/>
                  </a:lnTo>
                  <a:lnTo>
                    <a:pt x="106" y="2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18240" y="4295520"/>
              <a:ext cx="898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TRACE</a:t>
              </a:r>
              <a:r>
                <a:rPr b="1" lang="en-GB" sz="14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0800000">
              <a:off x="2203200" y="4375080"/>
              <a:ext cx="457200" cy="395280"/>
            </a:xfrm>
            <a:prstGeom prst="leftArrow">
              <a:avLst>
                <a:gd name="adj1" fmla="val 50000"/>
                <a:gd name="adj2" fmla="val 19395"/>
              </a:avLst>
            </a:prstGeom>
            <a:solidFill>
              <a:srgbClr val="0045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794040" y="1720800"/>
            <a:ext cx="1800" cy="851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87960" y="1714680"/>
            <a:ext cx="1440" cy="849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8040" y="5318280"/>
            <a:ext cx="1164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4280" y="3373560"/>
            <a:ext cx="1028520" cy="71892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36040" y="3467160"/>
            <a:ext cx="897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2195640" y="5292720"/>
            <a:ext cx="457200" cy="395280"/>
          </a:xfrm>
          <a:prstGeom prst="leftArrow">
            <a:avLst>
              <a:gd name="adj1" fmla="val 50000"/>
              <a:gd name="adj2" fmla="val 19395"/>
            </a:avLst>
          </a:prstGeom>
          <a:solidFill>
            <a:srgbClr val="0045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5400" y="1704960"/>
            <a:ext cx="3189240" cy="692280"/>
          </a:xfrm>
          <a:prstGeom prst="wedgeRoundRectCallout">
            <a:avLst>
              <a:gd name="adj1" fmla="val -44972"/>
              <a:gd name="adj2" fmla="val 84861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XCOM),TYPE=(AL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S=(DMP),BLKS=(D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471600" y="2543040"/>
            <a:ext cx="2869560" cy="1514520"/>
            <a:chOff x="471600" y="2543040"/>
            <a:chExt cx="2869560" cy="1514520"/>
          </a:xfrm>
        </p:grpSpPr>
        <p:sp>
          <p:nvSpPr>
            <p:cNvPr id="634" name=""/>
            <p:cNvSpPr/>
            <p:nvPr/>
          </p:nvSpPr>
          <p:spPr>
            <a:xfrm>
              <a:off x="471600" y="2543040"/>
              <a:ext cx="1787400" cy="151452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ce of all main routine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isplay buffers and control blocks in short 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73040" y="2774880"/>
              <a:ext cx="1068120" cy="317520"/>
            </a:xfrm>
            <a:prstGeom prst="leftArrow">
              <a:avLst>
                <a:gd name="adj1" fmla="val 50000"/>
                <a:gd name="adj2" fmla="val 84099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5600880" y="3878280"/>
            <a:ext cx="3189240" cy="692280"/>
          </a:xfrm>
          <a:prstGeom prst="wedgeRoundRectCallout">
            <a:avLst>
              <a:gd name="adj1" fmla="val -44078"/>
              <a:gd name="adj2" fmla="val 82569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PSF),TYPE=(ER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S=(OFF),BLKS=(OF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6000840" y="4659480"/>
            <a:ext cx="2514600" cy="1301760"/>
            <a:chOff x="6000840" y="4659480"/>
            <a:chExt cx="2514600" cy="1301760"/>
          </a:xfrm>
        </p:grpSpPr>
        <p:sp>
          <p:nvSpPr>
            <p:cNvPr id="638" name=""/>
            <p:cNvSpPr/>
            <p:nvPr/>
          </p:nvSpPr>
          <p:spPr>
            <a:xfrm>
              <a:off x="6813720" y="4659480"/>
              <a:ext cx="1701720" cy="130176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ce only in error case;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no display of buffers and control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800000">
              <a:off x="6000840" y="4881240"/>
              <a:ext cx="836640" cy="208080"/>
            </a:xfrm>
            <a:prstGeom prst="leftArrow">
              <a:avLst>
                <a:gd name="adj1" fmla="val 50000"/>
                <a:gd name="adj2" fmla="val 100519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732640" y="2459160"/>
            <a:ext cx="3087000" cy="1225440"/>
            <a:chOff x="5732640" y="2459160"/>
            <a:chExt cx="3087000" cy="1225440"/>
          </a:xfrm>
        </p:grpSpPr>
        <p:sp>
          <p:nvSpPr>
            <p:cNvPr id="641" name=""/>
            <p:cNvSpPr/>
            <p:nvPr/>
          </p:nvSpPr>
          <p:spPr>
            <a:xfrm rot="10800000">
              <a:off x="5744520" y="2709360"/>
              <a:ext cx="1169280" cy="231480"/>
            </a:xfrm>
            <a:prstGeom prst="leftArrow">
              <a:avLst>
                <a:gd name="adj1" fmla="val 50000"/>
                <a:gd name="adj2" fmla="val 126283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0800000">
              <a:off x="5753520" y="2501280"/>
              <a:ext cx="1169280" cy="245880"/>
            </a:xfrm>
            <a:prstGeom prst="leftArrow">
              <a:avLst>
                <a:gd name="adj1" fmla="val 50000"/>
                <a:gd name="adj2" fmla="val 118887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0800000">
              <a:off x="5732640" y="2930400"/>
              <a:ext cx="1152000" cy="228240"/>
            </a:xfrm>
            <a:prstGeom prst="leftArrow">
              <a:avLst>
                <a:gd name="adj1" fmla="val 50000"/>
                <a:gd name="adj2" fmla="val 126183"/>
              </a:avLst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24240" y="2459160"/>
              <a:ext cx="1895400" cy="1225440"/>
            </a:xfrm>
            <a:prstGeom prst="flowChartDocumen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ce of all routines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isplay buffers and control blocks in dump 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878200" y="1293840"/>
            <a:ext cx="833400" cy="801720"/>
            <a:chOff x="2878200" y="1293840"/>
            <a:chExt cx="833400" cy="801720"/>
          </a:xfrm>
        </p:grpSpPr>
        <p:sp>
          <p:nvSpPr>
            <p:cNvPr id="646" name=""/>
            <p:cNvSpPr/>
            <p:nvPr/>
          </p:nvSpPr>
          <p:spPr>
            <a:xfrm>
              <a:off x="2878200" y="1293840"/>
              <a:ext cx="833400" cy="801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2975040" y="1299960"/>
              <a:ext cx="639360" cy="788760"/>
              <a:chOff x="2975040" y="1299960"/>
              <a:chExt cx="639360" cy="788760"/>
            </a:xfrm>
          </p:grpSpPr>
          <p:sp>
            <p:nvSpPr>
              <p:cNvPr id="648" name=""/>
              <p:cNvSpPr/>
              <p:nvPr/>
            </p:nvSpPr>
            <p:spPr>
              <a:xfrm>
                <a:off x="3295440" y="1299960"/>
                <a:ext cx="0" cy="78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374640" y="130932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55280" y="1325520"/>
                <a:ext cx="0" cy="73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34480" y="1370520"/>
                <a:ext cx="0" cy="64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14400" y="1444680"/>
                <a:ext cx="0" cy="49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14800" y="1309320"/>
                <a:ext cx="0" cy="77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32720" y="1330200"/>
                <a:ext cx="0" cy="72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53520" y="1378800"/>
                <a:ext cx="0" cy="63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75040" y="1455120"/>
                <a:ext cx="0" cy="47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880000" y="1383120"/>
              <a:ext cx="829080" cy="621720"/>
              <a:chOff x="2880000" y="1383120"/>
              <a:chExt cx="829080" cy="621720"/>
            </a:xfrm>
          </p:grpSpPr>
          <p:sp>
            <p:nvSpPr>
              <p:cNvPr id="658" name=""/>
              <p:cNvSpPr/>
              <p:nvPr/>
            </p:nvSpPr>
            <p:spPr>
              <a:xfrm flipH="1">
                <a:off x="2880000" y="1693080"/>
                <a:ext cx="82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2889360" y="177120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904120" y="1849680"/>
                <a:ext cx="77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953440" y="1927440"/>
                <a:ext cx="68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26880" y="20048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2889360" y="1616040"/>
                <a:ext cx="8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12040" y="1537200"/>
                <a:ext cx="76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62440" y="1460880"/>
                <a:ext cx="66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039840" y="1383120"/>
                <a:ext cx="509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"/>
          <p:cNvSpPr/>
          <p:nvPr/>
        </p:nvSpPr>
        <p:spPr>
          <a:xfrm>
            <a:off x="501480" y="1662120"/>
            <a:ext cx="2986200" cy="719280"/>
          </a:xfrm>
          <a:prstGeom prst="wedgeRoundRectCallout">
            <a:avLst>
              <a:gd name="adj1" fmla="val 48615"/>
              <a:gd name="adj2" fmla="val 85981"/>
              <a:gd name="adj3" fmla="val 1666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CE=CLASS(TCP),TYPE=(KEY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S=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,BLKS=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 “TRACE” types are defined in the EntireX Broker Startup Parameter fi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(DIAG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(ETB),COP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(PSF),TYPE(ALL),BUFS(DMP),BLKS(OF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)TCP),TYPE(ALL) BUFS(DMP),BLKS(OF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(XCOM),TYPE(ALL),BUFS(DMP),BLKS(OFF)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=CLASS(SEC),TYPE(ALL),BUFS(DMP),BLKS(OFF)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Kernel Trace Fac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CE=CLASS(XCOM),TYPE(ALL),BUFS(DMP),BLKS(OF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YPE(ALL) - selects all trace call entrie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UFS(DMP) - dumps and formats all buffer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LKS(OFF) - turns off Broker ACI control block tracing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nel Trace Facility - Examp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565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he EntireX Kernel has 4 levels of tracing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Level 1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Level 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Level 3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Level 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62720" y="3657600"/>
            <a:ext cx="1788840" cy="18208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6043680" y="4538520"/>
          <a:ext cx="92700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3680" y="4538520"/>
                    <a:ext cx="927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6019920" y="399888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28800" y="3998880"/>
            <a:ext cx="1828800" cy="1197000"/>
          </a:xfrm>
          <a:prstGeom prst="can">
            <a:avLst>
              <a:gd name="adj" fmla="val 17180"/>
            </a:avLst>
          </a:prstGeom>
          <a:solidFill>
            <a:srgbClr val="0076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faults Broker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TRACE-LEVEL=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57600" y="4395960"/>
            <a:ext cx="1905120" cy="492120"/>
          </a:xfrm>
          <a:prstGeom prst="rightArrow">
            <a:avLst>
              <a:gd name="adj1" fmla="val 50000"/>
              <a:gd name="adj2" fmla="val 96781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ce Leve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provides trace information for all in-coming request, out-going replies, and resource usag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ce Leve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provides for all the components of Trace Level 1, plus all main routines that are executed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ce Leve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provides for all the components of Trace Level 1 and 2, plus all routines being executed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ce leve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provides all information from 1 – 3 plus additional information for Development.  Trace Level 4 should only be used when requested by Customer Support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 System Management Hub (SMH) can be used to dynamically change the trace level without stopping and restarting Broker.  When this is done, a message will appear in the Broker Trace File output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mand from Administrator accepted: Set Trace Level 3”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ating the Tra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 most cases, a Broker Trace type “TRACE=CLASS(ETB),COPY” with a trace level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3”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ill be sufficient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ustomer Support will advise what level of a trace is needed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 trace output is written to the EntireX Broker started task job log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Clas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ub Log Trace Fac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1447920"/>
            <a:ext cx="754524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ntireX has several different types and levels of tracing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s section will discuss the most commonly used levels and types of tracing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ntireX Broker Stu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ker stub log tracing can be activated by the application and/or system staff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114560" y="4248000"/>
          <a:ext cx="1006200" cy="10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4248000"/>
                    <a:ext cx="100620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1798560" y="4495680"/>
            <a:ext cx="16765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75080" y="3811680"/>
            <a:ext cx="1484280" cy="1366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4057560"/>
            <a:ext cx="9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4071960" y="4638600"/>
          <a:ext cx="708120" cy="6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4638600"/>
                    <a:ext cx="70812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1523880" y="5132520"/>
            <a:ext cx="533520" cy="5824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71880" y="5486400"/>
            <a:ext cx="13032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Log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ub Log Trace Fac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565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stub log trace can be used on the Client side to capture and diagnosis problems when the client sends a request to the Broker Kernel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re ar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evels of “STUBLOG” tracing available.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ce Level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ce Level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ce Level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ce Level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114560" y="4695840"/>
          <a:ext cx="100620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4695840"/>
                    <a:ext cx="10062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2590920" y="5486400"/>
            <a:ext cx="13032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Log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774800" y="5391000"/>
            <a:ext cx="81612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ub Log Trace Facility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17440" y="1299960"/>
            <a:ext cx="8469360" cy="479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C Client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ystem Environment variable must be se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, Settings, Control Panel, System, Advanced, Environment Variab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-249480">
              <a:spcBef>
                <a:spcPts val="400"/>
              </a:spcBef>
              <a:buClr>
                <a:srgbClr val="cc00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TB_STUBLOG=3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output is written to a file “xxxxx.etb”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xxxxx = Process-id numb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114560" y="4734000"/>
          <a:ext cx="100620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4734000"/>
                    <a:ext cx="10062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2590920" y="5486400"/>
            <a:ext cx="13032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Log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74800" y="5257800"/>
            <a:ext cx="66348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roubleshooting EntireX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Monitoring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ommon Erro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EntireX Trace Facil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ntireX Kernel Trac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Stub</a:t>
            </a: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log Tra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XML RPC Serv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XML Servl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Natural RPC Server Trac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Account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EntireX Timou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tub Log Trace Facil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17440" y="1299960"/>
            <a:ext cx="8469360" cy="479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NIX Cli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n Environment variable is se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t ETB_STUBLOG=3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xport ETB_STUB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ce output is written to a file “xxxxx.etb”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xxxx = Process-id numb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85800" y="4591080"/>
          <a:ext cx="10890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91080"/>
                    <a:ext cx="10890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2590920" y="5486400"/>
            <a:ext cx="1303200" cy="609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b Log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74800" y="5257800"/>
            <a:ext cx="66348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217080" y="1371600"/>
            <a:ext cx="869796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zOS Cli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AGTOKEN must be us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AGTOKEN is located in the EntireX Load Libra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ce output is written in the Client Program job lo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//SAGTOKEN EXEC PGM=SAGTOKEN,PARM=('SET LOCAL,STUBLOG =3'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//STEPLIB   DD DSN=ENTIR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b Log Trace - zOS Cli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b Log Trace with TCP/IP on z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AGTOKEN program provided in EntireX Load Libra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Used to invoke the TCP Transpor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Used to invoke to EntireX “C” Stub Progra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BKIMBTSO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is “C” stub progra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803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b Log Trace with TCP/IP on zOS 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BKIMBTSO is called first, loads the actual stub module and transfers control to the stub.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atural is started using the following profile paramet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RCA=(BROKER),RCALIAS=(BROKER,BKIMBTSO)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ynamically loads BKIMBTSO for each Broker cal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– “C” Stub with TCP/IP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MYJOB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AGTOKEN EXEX PGM=SAGTOKEN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ARM=('SET LOCAL,TRASNPORT=TCP’)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TEPLIB     DD  DSN=ENTIR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*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ETB1001  EXEC     PGM=NATBATCH,REGION=0M,PARM=('IM=D,INTENS=1,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CA=(BROKER),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CALIAS=(BROKER,BKIMBTSO)')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TEPLIB   DD DSN= ENTIR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TEPLIB   DD DISP=SHR,DSN=NATURAL.LOAD.LIBRARY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                  DD DISP=SHR,DSN=ENTIREX.LOAD.LIBRARY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                  DD DISP=SHR,DSN=ADABAS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- Stub Log Trace “C” Stub with TCP/IP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o get a EntireX stub log trace on zOS when using TCP/IP and the “C” Stub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Add another job step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//SAGTOKEN EXEX PGM=SAGTOKEN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ARM=('SET LOCAL, STUBLOG=3'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//STEPLIB     DD DSN=ENTI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race output is written to the job log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Exampl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AGTOKEN EXEX PGM=SAGTOKEN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ARM=('SET LOCAL,TRASNPORT=TCP‘)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TEPLIB     DD  DSN=ENTIR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*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AGTOKEN EXEX PGM=SAGTOKEN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PARM=('SET LOCAL, STUBLOG=3')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STEPLIB     DD DSN=ENTIEX.LOAD.LIBRARY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ETB1001  EXEC     PGM=NATBATCH,REGION=0M,PARM=('IM=D,INTENS=1,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//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CA=(BROKER),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CALIAS=(BROKER,BKIMBTSO)')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ing the XML RPC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ritical to troubleshooting XML problem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coming and outgoing XML documents will be display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t the Trace Level in the XML RPC Server job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-DentireX.trace=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figure the entirex.trace.properties fi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tirex.sdk.default.trace.level = Advanc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tirex.sdk.default.filename = XMLTra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RPC Server Trac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6019920"/>
            <a:ext cx="3048120" cy="304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RPC Server 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rcRect l="0" t="2776" r="0" b="5556"/>
          <a:stretch/>
        </p:blipFill>
        <p:spPr>
          <a:xfrm>
            <a:off x="903240" y="1447920"/>
            <a:ext cx="7251840" cy="448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2" name=""/>
          <p:cNvSpPr/>
          <p:nvPr/>
        </p:nvSpPr>
        <p:spPr>
          <a:xfrm flipV="1">
            <a:off x="2666880" y="5516640"/>
            <a:ext cx="0" cy="503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RPC Server Tracing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rcRect l="0" t="2318" r="1971" b="28593"/>
          <a:stretch/>
        </p:blipFill>
        <p:spPr>
          <a:xfrm>
            <a:off x="1184400" y="1671480"/>
            <a:ext cx="6900840" cy="39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5" name=""/>
          <p:cNvSpPr/>
          <p:nvPr/>
        </p:nvSpPr>
        <p:spPr>
          <a:xfrm flipH="1">
            <a:off x="3885840" y="3753000"/>
            <a:ext cx="10666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114800" y="3962520"/>
            <a:ext cx="8380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43520" y="3753000"/>
            <a:ext cx="0" cy="1981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05320" y="5715000"/>
            <a:ext cx="3047760" cy="53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ing the Trace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ervlet Trac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ntireX Servlet deployed under Tomca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n the “C:\jakarta_tomcat_5.0.1\bin” include the “entirex.trace.properties” fi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t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ntirex.sdk.default.trace.leve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= ADVANC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t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entirex.sdk.default.trace.filenam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= XMLRTRC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9960" y="1447920"/>
            <a:ext cx="3113280" cy="28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677600"/>
            <a:ext cx="843444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Trac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26040" y="1484280"/>
            <a:ext cx="1943280" cy="26431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144680" y="2430000"/>
            <a:ext cx="3689640" cy="3291840"/>
            <a:chOff x="4144680" y="2430000"/>
            <a:chExt cx="3689640" cy="3291840"/>
          </a:xfrm>
        </p:grpSpPr>
        <p:sp>
          <p:nvSpPr>
            <p:cNvPr id="99" name=""/>
            <p:cNvSpPr/>
            <p:nvPr/>
          </p:nvSpPr>
          <p:spPr>
            <a:xfrm rot="2383800">
              <a:off x="4179600" y="3189240"/>
              <a:ext cx="685800" cy="246240"/>
            </a:xfrm>
            <a:custGeom>
              <a:avLst/>
              <a:gdLst/>
              <a:ahLst/>
              <a:rect l="l" t="t" r="r" b="b"/>
              <a:pathLst>
                <a:path w="534" h="192">
                  <a:moveTo>
                    <a:pt x="0" y="0"/>
                  </a:moveTo>
                  <a:lnTo>
                    <a:pt x="534" y="0"/>
                  </a:lnTo>
                  <a:lnTo>
                    <a:pt x="474" y="192"/>
                  </a:lnTo>
                  <a:lnTo>
                    <a:pt x="26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383800">
              <a:off x="3984120" y="3601800"/>
              <a:ext cx="4010040" cy="947520"/>
            </a:xfrm>
            <a:custGeom>
              <a:avLst/>
              <a:gdLst/>
              <a:ahLst/>
              <a:rect l="l" t="t" r="r" b="b"/>
              <a:pathLst>
                <a:path w="3122" h="738">
                  <a:moveTo>
                    <a:pt x="0" y="228"/>
                  </a:moveTo>
                  <a:lnTo>
                    <a:pt x="53" y="165"/>
                  </a:lnTo>
                  <a:lnTo>
                    <a:pt x="104" y="111"/>
                  </a:lnTo>
                  <a:lnTo>
                    <a:pt x="158" y="61"/>
                  </a:lnTo>
                  <a:lnTo>
                    <a:pt x="215" y="24"/>
                  </a:lnTo>
                  <a:lnTo>
                    <a:pt x="264" y="0"/>
                  </a:lnTo>
                  <a:lnTo>
                    <a:pt x="552" y="0"/>
                  </a:lnTo>
                  <a:lnTo>
                    <a:pt x="846" y="222"/>
                  </a:lnTo>
                  <a:lnTo>
                    <a:pt x="2983" y="222"/>
                  </a:lnTo>
                  <a:lnTo>
                    <a:pt x="3029" y="233"/>
                  </a:lnTo>
                  <a:lnTo>
                    <a:pt x="3062" y="251"/>
                  </a:lnTo>
                  <a:lnTo>
                    <a:pt x="3086" y="272"/>
                  </a:lnTo>
                  <a:lnTo>
                    <a:pt x="3102" y="299"/>
                  </a:lnTo>
                  <a:lnTo>
                    <a:pt x="3113" y="338"/>
                  </a:lnTo>
                  <a:lnTo>
                    <a:pt x="3122" y="390"/>
                  </a:lnTo>
                  <a:lnTo>
                    <a:pt x="3119" y="441"/>
                  </a:lnTo>
                  <a:lnTo>
                    <a:pt x="3110" y="476"/>
                  </a:lnTo>
                  <a:lnTo>
                    <a:pt x="3093" y="512"/>
                  </a:lnTo>
                  <a:lnTo>
                    <a:pt x="3066" y="543"/>
                  </a:lnTo>
                  <a:lnTo>
                    <a:pt x="3035" y="560"/>
                  </a:lnTo>
                  <a:lnTo>
                    <a:pt x="2990" y="564"/>
                  </a:lnTo>
                  <a:lnTo>
                    <a:pt x="864" y="564"/>
                  </a:lnTo>
                  <a:lnTo>
                    <a:pt x="504" y="738"/>
                  </a:lnTo>
                  <a:lnTo>
                    <a:pt x="462" y="540"/>
                  </a:lnTo>
                  <a:lnTo>
                    <a:pt x="390" y="282"/>
                  </a:lnTo>
                  <a:lnTo>
                    <a:pt x="28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383800">
              <a:off x="4992120" y="4269600"/>
              <a:ext cx="2644560" cy="2617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383800">
              <a:off x="7176960" y="5109120"/>
              <a:ext cx="292680" cy="26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383800">
              <a:off x="5008320" y="3078000"/>
              <a:ext cx="169200" cy="41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383800">
              <a:off x="4995000" y="3122640"/>
              <a:ext cx="198720" cy="416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862520" y="3089880"/>
              <a:ext cx="459000" cy="480600"/>
              <a:chOff x="4862520" y="3089880"/>
              <a:chExt cx="459000" cy="480600"/>
            </a:xfrm>
          </p:grpSpPr>
          <p:sp>
            <p:nvSpPr>
              <p:cNvPr id="106" name=""/>
              <p:cNvSpPr/>
              <p:nvPr/>
            </p:nvSpPr>
            <p:spPr>
              <a:xfrm rot="2383800">
                <a:off x="4991760" y="3053520"/>
                <a:ext cx="3816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383800">
                <a:off x="5153760" y="3188160"/>
                <a:ext cx="3852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058000" y="3129120"/>
                <a:ext cx="237240" cy="190800"/>
                <a:chOff x="5058000" y="3129120"/>
                <a:chExt cx="237240" cy="190800"/>
              </a:xfrm>
            </p:grpSpPr>
            <p:sp>
              <p:nvSpPr>
                <p:cNvPr id="109" name=""/>
                <p:cNvSpPr/>
                <p:nvPr/>
              </p:nvSpPr>
              <p:spPr>
                <a:xfrm rot="2383800">
                  <a:off x="5092200" y="3171960"/>
                  <a:ext cx="17208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2383800">
                  <a:off x="5069160" y="3161160"/>
                  <a:ext cx="5508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2383800">
                  <a:off x="5227200" y="323172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2920" y="3201480"/>
                <a:ext cx="236880" cy="190440"/>
                <a:chOff x="5002920" y="3201480"/>
                <a:chExt cx="236880" cy="190440"/>
              </a:xfrm>
            </p:grpSpPr>
            <p:sp>
              <p:nvSpPr>
                <p:cNvPr id="113" name=""/>
                <p:cNvSpPr/>
                <p:nvPr/>
              </p:nvSpPr>
              <p:spPr>
                <a:xfrm rot="2383800">
                  <a:off x="5036760" y="324396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383800">
                  <a:off x="5014080" y="323352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383800">
                  <a:off x="5171400" y="3304080"/>
                  <a:ext cx="56160" cy="5760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943520" y="3269160"/>
                <a:ext cx="236520" cy="190440"/>
                <a:chOff x="4943520" y="3269160"/>
                <a:chExt cx="236520" cy="190440"/>
              </a:xfrm>
            </p:grpSpPr>
            <p:sp>
              <p:nvSpPr>
                <p:cNvPr id="117" name=""/>
                <p:cNvSpPr/>
                <p:nvPr/>
              </p:nvSpPr>
              <p:spPr>
                <a:xfrm rot="2383800">
                  <a:off x="4977360" y="331164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383800">
                  <a:off x="4954680" y="330120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2383800">
                  <a:off x="5112000" y="337176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884480" y="3342240"/>
                <a:ext cx="236880" cy="190440"/>
                <a:chOff x="4884480" y="3342240"/>
                <a:chExt cx="236880" cy="190440"/>
              </a:xfrm>
            </p:grpSpPr>
            <p:sp>
              <p:nvSpPr>
                <p:cNvPr id="121" name=""/>
                <p:cNvSpPr/>
                <p:nvPr/>
              </p:nvSpPr>
              <p:spPr>
                <a:xfrm rot="2383800">
                  <a:off x="4918320" y="3385080"/>
                  <a:ext cx="172080" cy="10476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2383800">
                  <a:off x="4895280" y="3374280"/>
                  <a:ext cx="55080" cy="5472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2383800">
                  <a:off x="5053320" y="344484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Servlet Tracing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17080" y="1371240"/>
            <a:ext cx="8697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roperties File for Trace Settin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EntireX SDK Trace setting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to activate: rename to 'entirex.trace.properties' !!!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trace.level           = NONE, STANDARD or ADVANC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trace.directory       = output directory, '.' means path of working directory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                        If necessary, the specified path will created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trace.filename        = any name, BUT two reserved words: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                        STDOUT or STDERR for direct output to the console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                        Note: The file name in your file system is defined as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                              follows: exx.sdk.&lt;component&gt;[.&lt;ThreadID&gt;][.00x].log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trace.threadoriented  = true or false,  if true, for each thread a separate file will be created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'default', settings for all components, can be replaced by specia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componentname(s), like 'xml.runtime' or 'xml.servlet'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# ----------------------------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tirex.sdk.default.trace.level=ADVANCE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tirex.sdk.default.trace.directory=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tirex.sdk.default.trace.filename=XMLRT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ntirex.sdk.default.trace.threadoriented=fals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race file is written with file nam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exx.sdk.xml.servlet.xxx.log”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RPC Server T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alls to a Natural RPC Server can be traced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se the parameter “Trace”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ree levels of tracing availab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RPC=(SERVER=ON,RPCSIZE=128,MAXBUFF=30,SRVNAME=SRV1,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SRVNODE=ETB203,TRACE=0)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RPC=(SERVER=ON,RPCSIZE=128,MAXBUFF=30,SRVNAME=SRV1,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SRVNODE=ETB203,TRACE=1)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RPC=(SERVER=ON,RPCSIZE=128,MAXBUFF=30,SRVNAME=SRV1,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45a0"/>
                </a:solidFill>
                <a:latin typeface="Arial"/>
              </a:rPr>
              <a:t>SRVNODE=ETB203,TRACE=2)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RPC Server Trace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e=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race Performed (defaul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e=1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lient requests and corresponding server responses are traced and docume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e=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lient requests and corresponding server responses are traced and document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PC data are written to the trace fil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RPC Server Trace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dditional Trace Levels in Natural V4.1.4 and above using RPC V6.1.2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RPC=(SERVER=ON,RPCSIZE=128,MAXBUFF=30,SRVNAME=SRV1,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SRVNODE=ETB203,TRACE=1,E)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Messages Trace in the event of an error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RPC=(SERVER=ON,RPCSIZE=128,MAXBUFF=30,SRVNAME=SRV1,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SRVNODE=ETB203,TRACE=2,E)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45a0"/>
                </a:solidFill>
                <a:latin typeface="Arial"/>
              </a:rPr>
              <a:t>Messages and data from/to client are traced in the event of an error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ith trace level (2,E) not even the usual 00740074 error messages do not appear in the trace, making the trace output very smal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18960" y="3071880"/>
            <a:ext cx="2862360" cy="1488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881520" y="2184120"/>
            <a:ext cx="554040" cy="600120"/>
          </a:xfrm>
          <a:prstGeom prst="line">
            <a:avLst/>
          </a:prstGeom>
          <a:ln w="50760">
            <a:solidFill>
              <a:srgbClr val="0088e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129280" y="1019160"/>
            <a:ext cx="1568520" cy="8208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3600360" y="2778120"/>
            <a:ext cx="5043600" cy="317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689280" y="3987720"/>
            <a:ext cx="2386080" cy="45900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834320" y="4935600"/>
            <a:ext cx="746280" cy="1587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atural RPC Server Trac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886440" y="1251000"/>
            <a:ext cx="1865160" cy="1361880"/>
            <a:chOff x="6886440" y="1251000"/>
            <a:chExt cx="1865160" cy="1361880"/>
          </a:xfrm>
        </p:grpSpPr>
        <p:sp>
          <p:nvSpPr>
            <p:cNvPr id="777" name=""/>
            <p:cNvSpPr/>
            <p:nvPr/>
          </p:nvSpPr>
          <p:spPr>
            <a:xfrm>
              <a:off x="6886440" y="2176560"/>
              <a:ext cx="1865160" cy="436320"/>
            </a:xfrm>
            <a:prstGeom prst="ellipse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193ca8"/>
                </a:gs>
                <a:gs pos="100000">
                  <a:srgbClr val="0027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86440" y="1461960"/>
              <a:ext cx="1865160" cy="93024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193ca8"/>
                </a:gs>
                <a:gs pos="100000">
                  <a:srgbClr val="0027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6440" y="1251000"/>
              <a:ext cx="1865160" cy="4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7437600" y="2554200"/>
            <a:ext cx="7869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004160" y="1751040"/>
            <a:ext cx="1681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ce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7169040" y="2017800"/>
            <a:ext cx="1465200" cy="449280"/>
            <a:chOff x="7169040" y="2017800"/>
            <a:chExt cx="1465200" cy="449280"/>
          </a:xfrm>
        </p:grpSpPr>
        <p:sp>
          <p:nvSpPr>
            <p:cNvPr id="783" name=""/>
            <p:cNvSpPr/>
            <p:nvPr/>
          </p:nvSpPr>
          <p:spPr>
            <a:xfrm>
              <a:off x="7169040" y="2017800"/>
              <a:ext cx="728640" cy="44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05600" y="2017800"/>
              <a:ext cx="728640" cy="44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7856640" y="1986120"/>
            <a:ext cx="995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BOOK-N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BOOK-N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BOOK-N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01000" y="1862280"/>
            <a:ext cx="85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RV-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809640" y="66960"/>
            <a:ext cx="2165400" cy="2184120"/>
            <a:chOff x="809640" y="66960"/>
            <a:chExt cx="2165400" cy="2184120"/>
          </a:xfrm>
        </p:grpSpPr>
        <p:sp>
          <p:nvSpPr>
            <p:cNvPr id="788" name=""/>
            <p:cNvSpPr/>
            <p:nvPr/>
          </p:nvSpPr>
          <p:spPr>
            <a:xfrm flipV="1">
              <a:off x="1892160" y="1157400"/>
              <a:ext cx="0" cy="10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095560" y="1147680"/>
              <a:ext cx="0" cy="10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2303640" y="1152360"/>
              <a:ext cx="0" cy="101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506680" y="1147680"/>
              <a:ext cx="0" cy="89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12960" y="1152360"/>
              <a:ext cx="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1687680" y="1157040"/>
              <a:ext cx="0" cy="10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1479600" y="1160280"/>
              <a:ext cx="0" cy="9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1274760" y="116028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1066680" y="1160280"/>
              <a:ext cx="0" cy="65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836640" y="115236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861480" y="1365120"/>
              <a:ext cx="2054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919080" y="1574640"/>
              <a:ext cx="19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047600" y="1784520"/>
              <a:ext cx="168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247400" y="1998720"/>
              <a:ext cx="128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809640" y="66960"/>
              <a:ext cx="2165400" cy="2184120"/>
              <a:chOff x="809640" y="66960"/>
              <a:chExt cx="2165400" cy="2184120"/>
            </a:xfrm>
          </p:grpSpPr>
          <p:sp>
            <p:nvSpPr>
              <p:cNvPr id="803" name=""/>
              <p:cNvSpPr/>
              <p:nvPr/>
            </p:nvSpPr>
            <p:spPr>
              <a:xfrm rot="10800000">
                <a:off x="825840" y="66960"/>
                <a:ext cx="2149200" cy="218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074" swAng="54000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074" swAng="540007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0800000">
                <a:off x="809640" y="66960"/>
                <a:ext cx="2149560" cy="218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999" swAng="5389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999" swAng="538992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2968200" y="1174680"/>
            <a:ext cx="74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B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612240" y="2774880"/>
            <a:ext cx="512280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RVRPCE   P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ERVER    EXEC PGM=NATBAT,TIME=1440,REGION=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TEPLIB   DD   DSN=SAGLIB.NATxxx.LOAD,DISP=S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INT   DD  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INT1  DD   SYSOUT=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INT2  DD   SYSOUT=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T10   DD  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T101  DD  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T102  DD  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YSUDUMP  DD  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PRMIN   DD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ARM=BATP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RPC=(SERVER=ON,SRVNODE=ETB203,SRVNAME=SRVTST1,TRACE=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MAXBUFF=30,SIZE=30,NTASKS=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CMSYNIN   DD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2600" y="5305320"/>
            <a:ext cx="189072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652320" y="5381640"/>
            <a:ext cx="954000" cy="149040"/>
            <a:chOff x="652320" y="5381640"/>
            <a:chExt cx="954000" cy="149040"/>
          </a:xfrm>
        </p:grpSpPr>
        <p:sp>
          <p:nvSpPr>
            <p:cNvPr id="809" name=""/>
            <p:cNvSpPr/>
            <p:nvPr/>
          </p:nvSpPr>
          <p:spPr>
            <a:xfrm>
              <a:off x="1152360" y="5424480"/>
              <a:ext cx="453960" cy="55440"/>
            </a:xfrm>
            <a:custGeom>
              <a:avLst/>
              <a:gdLst/>
              <a:ahLst/>
              <a:rect l="l" t="t" r="r" b="b"/>
              <a:pathLst>
                <a:path w="286" h="35">
                  <a:moveTo>
                    <a:pt x="0" y="28"/>
                  </a:moveTo>
                  <a:lnTo>
                    <a:pt x="0" y="5"/>
                  </a:lnTo>
                  <a:lnTo>
                    <a:pt x="234" y="5"/>
                  </a:lnTo>
                  <a:lnTo>
                    <a:pt x="245" y="0"/>
                  </a:lnTo>
                  <a:lnTo>
                    <a:pt x="285" y="9"/>
                  </a:lnTo>
                  <a:lnTo>
                    <a:pt x="285" y="22"/>
                  </a:lnTo>
                  <a:lnTo>
                    <a:pt x="245" y="34"/>
                  </a:lnTo>
                  <a:lnTo>
                    <a:pt x="234" y="27"/>
                  </a:lnTo>
                  <a:lnTo>
                    <a:pt x="0" y="2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52360" y="54338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2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6" y="2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320" y="5381640"/>
              <a:ext cx="417600" cy="149040"/>
            </a:xfrm>
            <a:custGeom>
              <a:avLst/>
              <a:gdLst/>
              <a:ahLst/>
              <a:rect l="l" t="t" r="r" b="b"/>
              <a:pathLst>
                <a:path w="263" h="94">
                  <a:moveTo>
                    <a:pt x="258" y="71"/>
                  </a:moveTo>
                  <a:lnTo>
                    <a:pt x="243" y="78"/>
                  </a:lnTo>
                  <a:lnTo>
                    <a:pt x="233" y="85"/>
                  </a:lnTo>
                  <a:lnTo>
                    <a:pt x="226" y="93"/>
                  </a:lnTo>
                  <a:lnTo>
                    <a:pt x="218" y="93"/>
                  </a:lnTo>
                  <a:lnTo>
                    <a:pt x="40" y="93"/>
                  </a:lnTo>
                  <a:lnTo>
                    <a:pt x="32" y="92"/>
                  </a:lnTo>
                  <a:lnTo>
                    <a:pt x="22" y="88"/>
                  </a:lnTo>
                  <a:lnTo>
                    <a:pt x="14" y="82"/>
                  </a:lnTo>
                  <a:lnTo>
                    <a:pt x="9" y="76"/>
                  </a:lnTo>
                  <a:lnTo>
                    <a:pt x="4" y="69"/>
                  </a:lnTo>
                  <a:lnTo>
                    <a:pt x="1" y="61"/>
                  </a:lnTo>
                  <a:lnTo>
                    <a:pt x="0" y="51"/>
                  </a:lnTo>
                  <a:lnTo>
                    <a:pt x="0" y="36"/>
                  </a:lnTo>
                  <a:lnTo>
                    <a:pt x="3" y="25"/>
                  </a:lnTo>
                  <a:lnTo>
                    <a:pt x="6" y="19"/>
                  </a:lnTo>
                  <a:lnTo>
                    <a:pt x="10" y="12"/>
                  </a:lnTo>
                  <a:lnTo>
                    <a:pt x="16" y="8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4" y="6"/>
                  </a:lnTo>
                  <a:lnTo>
                    <a:pt x="243" y="13"/>
                  </a:lnTo>
                  <a:lnTo>
                    <a:pt x="258" y="20"/>
                  </a:lnTo>
                  <a:lnTo>
                    <a:pt x="260" y="31"/>
                  </a:lnTo>
                  <a:lnTo>
                    <a:pt x="262" y="45"/>
                  </a:lnTo>
                  <a:lnTo>
                    <a:pt x="259" y="61"/>
                  </a:lnTo>
                  <a:lnTo>
                    <a:pt x="258" y="71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9840" y="5472000"/>
              <a:ext cx="333360" cy="31680"/>
            </a:xfrm>
            <a:custGeom>
              <a:avLst/>
              <a:gdLst/>
              <a:ahLst/>
              <a:rect l="l" t="t" r="r" b="b"/>
              <a:pathLst>
                <a:path w="210" h="20">
                  <a:moveTo>
                    <a:pt x="8" y="19"/>
                  </a:moveTo>
                  <a:lnTo>
                    <a:pt x="196" y="19"/>
                  </a:lnTo>
                  <a:lnTo>
                    <a:pt x="200" y="17"/>
                  </a:lnTo>
                  <a:lnTo>
                    <a:pt x="203" y="14"/>
                  </a:lnTo>
                  <a:lnTo>
                    <a:pt x="206" y="12"/>
                  </a:lnTo>
                  <a:lnTo>
                    <a:pt x="209" y="9"/>
                  </a:lnTo>
                  <a:lnTo>
                    <a:pt x="206" y="6"/>
                  </a:lnTo>
                  <a:lnTo>
                    <a:pt x="203" y="3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8" y="19"/>
                  </a:lnTo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9840" y="5406840"/>
              <a:ext cx="333360" cy="31680"/>
            </a:xfrm>
            <a:custGeom>
              <a:avLst/>
              <a:gdLst/>
              <a:ahLst/>
              <a:rect l="l" t="t" r="r" b="b"/>
              <a:pathLst>
                <a:path w="210" h="20">
                  <a:moveTo>
                    <a:pt x="9" y="19"/>
                  </a:moveTo>
                  <a:lnTo>
                    <a:pt x="196" y="19"/>
                  </a:lnTo>
                  <a:lnTo>
                    <a:pt x="200" y="17"/>
                  </a:lnTo>
                  <a:lnTo>
                    <a:pt x="203" y="15"/>
                  </a:lnTo>
                  <a:lnTo>
                    <a:pt x="206" y="12"/>
                  </a:lnTo>
                  <a:lnTo>
                    <a:pt x="209" y="9"/>
                  </a:lnTo>
                  <a:lnTo>
                    <a:pt x="206" y="6"/>
                  </a:lnTo>
                  <a:lnTo>
                    <a:pt x="203" y="3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9"/>
                  </a:lnTo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9920" y="5411520"/>
              <a:ext cx="27000" cy="85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2"/>
                  </a:moveTo>
                  <a:lnTo>
                    <a:pt x="3" y="45"/>
                  </a:lnTo>
                  <a:lnTo>
                    <a:pt x="5" y="35"/>
                  </a:lnTo>
                  <a:lnTo>
                    <a:pt x="7" y="25"/>
                  </a:lnTo>
                  <a:lnTo>
                    <a:pt x="5" y="16"/>
                  </a:lnTo>
                  <a:lnTo>
                    <a:pt x="3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7"/>
                  </a:lnTo>
                  <a:lnTo>
                    <a:pt x="13" y="16"/>
                  </a:lnTo>
                  <a:lnTo>
                    <a:pt x="16" y="25"/>
                  </a:lnTo>
                  <a:lnTo>
                    <a:pt x="13" y="35"/>
                  </a:lnTo>
                  <a:lnTo>
                    <a:pt x="10" y="45"/>
                  </a:lnTo>
                  <a:lnTo>
                    <a:pt x="7" y="52"/>
                  </a:lnTo>
                  <a:lnTo>
                    <a:pt x="5" y="53"/>
                  </a:lnTo>
                  <a:lnTo>
                    <a:pt x="2" y="53"/>
                  </a:lnTo>
                  <a:lnTo>
                    <a:pt x="0" y="52"/>
                  </a:lnTo>
                </a:path>
              </a:pathLst>
            </a:custGeom>
            <a:solidFill>
              <a:srgbClr val="a05000"/>
            </a:solidFill>
            <a:ln cap="rnd" w="12600">
              <a:solidFill>
                <a:srgbClr val="e07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62000" y="5411520"/>
              <a:ext cx="27000" cy="85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0" y="52"/>
                  </a:moveTo>
                  <a:lnTo>
                    <a:pt x="2" y="45"/>
                  </a:lnTo>
                  <a:lnTo>
                    <a:pt x="5" y="35"/>
                  </a:lnTo>
                  <a:lnTo>
                    <a:pt x="7" y="25"/>
                  </a:lnTo>
                  <a:lnTo>
                    <a:pt x="5" y="16"/>
                  </a:lnTo>
                  <a:lnTo>
                    <a:pt x="2" y="7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7"/>
                  </a:lnTo>
                  <a:lnTo>
                    <a:pt x="13" y="16"/>
                  </a:lnTo>
                  <a:lnTo>
                    <a:pt x="16" y="25"/>
                  </a:lnTo>
                  <a:lnTo>
                    <a:pt x="13" y="35"/>
                  </a:lnTo>
                  <a:lnTo>
                    <a:pt x="10" y="45"/>
                  </a:lnTo>
                  <a:lnTo>
                    <a:pt x="7" y="52"/>
                  </a:lnTo>
                  <a:lnTo>
                    <a:pt x="4" y="53"/>
                  </a:lnTo>
                  <a:lnTo>
                    <a:pt x="1" y="53"/>
                  </a:lnTo>
                  <a:lnTo>
                    <a:pt x="0" y="52"/>
                  </a:lnTo>
                </a:path>
              </a:pathLst>
            </a:custGeom>
            <a:solidFill>
              <a:srgbClr val="a05000"/>
            </a:solidFill>
            <a:ln cap="rnd" w="12600">
              <a:solidFill>
                <a:srgbClr val="e07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77840" y="541008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2"/>
                  </a:moveTo>
                  <a:lnTo>
                    <a:pt x="3" y="45"/>
                  </a:lnTo>
                  <a:lnTo>
                    <a:pt x="6" y="36"/>
                  </a:lnTo>
                  <a:lnTo>
                    <a:pt x="7" y="25"/>
                  </a:lnTo>
                  <a:lnTo>
                    <a:pt x="6" y="16"/>
                  </a:lnTo>
                  <a:lnTo>
                    <a:pt x="3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7"/>
                  </a:lnTo>
                  <a:lnTo>
                    <a:pt x="14" y="16"/>
                  </a:lnTo>
                  <a:lnTo>
                    <a:pt x="16" y="25"/>
                  </a:lnTo>
                  <a:lnTo>
                    <a:pt x="14" y="36"/>
                  </a:lnTo>
                  <a:lnTo>
                    <a:pt x="11" y="45"/>
                  </a:lnTo>
                  <a:lnTo>
                    <a:pt x="7" y="52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2"/>
                  </a:lnTo>
                </a:path>
              </a:pathLst>
            </a:custGeom>
            <a:solidFill>
              <a:srgbClr val="a05000"/>
            </a:solidFill>
            <a:ln cap="rnd" w="12600">
              <a:solidFill>
                <a:srgbClr val="e07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85760" y="5391000"/>
              <a:ext cx="68040" cy="122400"/>
            </a:xfrm>
            <a:custGeom>
              <a:avLst/>
              <a:gdLst/>
              <a:ahLst/>
              <a:rect l="l" t="t" r="r" b="b"/>
              <a:pathLst>
                <a:path w="43" h="77">
                  <a:moveTo>
                    <a:pt x="0" y="66"/>
                  </a:moveTo>
                  <a:lnTo>
                    <a:pt x="2" y="58"/>
                  </a:lnTo>
                  <a:lnTo>
                    <a:pt x="4" y="46"/>
                  </a:lnTo>
                  <a:lnTo>
                    <a:pt x="5" y="37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34" y="0"/>
                  </a:lnTo>
                  <a:lnTo>
                    <a:pt x="40" y="12"/>
                  </a:lnTo>
                  <a:lnTo>
                    <a:pt x="42" y="25"/>
                  </a:lnTo>
                  <a:lnTo>
                    <a:pt x="42" y="50"/>
                  </a:lnTo>
                  <a:lnTo>
                    <a:pt x="40" y="64"/>
                  </a:lnTo>
                  <a:lnTo>
                    <a:pt x="34" y="76"/>
                  </a:lnTo>
                  <a:lnTo>
                    <a:pt x="15" y="76"/>
                  </a:lnTo>
                  <a:lnTo>
                    <a:pt x="10" y="74"/>
                  </a:lnTo>
                  <a:lnTo>
                    <a:pt x="6" y="70"/>
                  </a:lnTo>
                  <a:lnTo>
                    <a:pt x="0" y="6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04840" y="54640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8" y="18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30" y="0"/>
                  </a:lnTo>
                  <a:lnTo>
                    <a:pt x="31" y="3"/>
                  </a:lnTo>
                  <a:lnTo>
                    <a:pt x="30" y="8"/>
                  </a:lnTo>
                  <a:lnTo>
                    <a:pt x="29" y="13"/>
                  </a:lnTo>
                  <a:lnTo>
                    <a:pt x="28" y="18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04840" y="541152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1" y="19"/>
                  </a:moveTo>
                  <a:lnTo>
                    <a:pt x="7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28" y="0"/>
                  </a:lnTo>
                  <a:lnTo>
                    <a:pt x="29" y="3"/>
                  </a:lnTo>
                  <a:lnTo>
                    <a:pt x="30" y="7"/>
                  </a:lnTo>
                  <a:lnTo>
                    <a:pt x="31" y="12"/>
                  </a:lnTo>
                  <a:lnTo>
                    <a:pt x="31" y="19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118880" y="5441400"/>
              <a:ext cx="0" cy="20520"/>
            </a:xfrm>
            <a:prstGeom prst="line">
              <a:avLst/>
            </a:prstGeom>
            <a:ln w="12600">
              <a:solidFill>
                <a:srgbClr val="a05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109520" y="5492160"/>
              <a:ext cx="7920" cy="19080"/>
            </a:xfrm>
            <a:prstGeom prst="line">
              <a:avLst/>
            </a:prstGeom>
            <a:ln w="12600">
              <a:solidFill>
                <a:srgbClr val="a05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1109520" y="5392080"/>
              <a:ext cx="7920" cy="19080"/>
            </a:xfrm>
            <a:prstGeom prst="line">
              <a:avLst/>
            </a:prstGeom>
            <a:ln w="12600">
              <a:solidFill>
                <a:srgbClr val="a05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53160" y="5508720"/>
            <a:ext cx="17881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PC sub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 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5600" y="3144960"/>
            <a:ext cx="267840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CE=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 no 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CE=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 all client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 server re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CE=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 client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 server repl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d RP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281240" y="1017720"/>
            <a:ext cx="1131840" cy="1139760"/>
            <a:chOff x="1281240" y="1017720"/>
            <a:chExt cx="1131840" cy="1139760"/>
          </a:xfrm>
        </p:grpSpPr>
        <p:sp>
          <p:nvSpPr>
            <p:cNvPr id="826" name=""/>
            <p:cNvSpPr/>
            <p:nvPr/>
          </p:nvSpPr>
          <p:spPr>
            <a:xfrm>
              <a:off x="1281240" y="1017720"/>
              <a:ext cx="1131840" cy="11397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1c1100"/>
                </a:gs>
                <a:gs pos="50000">
                  <a:srgbClr val="ff9900"/>
                </a:gs>
                <a:gs pos="100000">
                  <a:srgbClr val="1c1100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7" name=""/>
            <p:cNvGraphicFramePr/>
            <p:nvPr/>
          </p:nvGraphicFramePr>
          <p:xfrm>
            <a:off x="1619280" y="1656360"/>
            <a:ext cx="453960" cy="419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1656360"/>
                      <a:ext cx="453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9" name=""/>
            <p:cNvSpPr/>
            <p:nvPr/>
          </p:nvSpPr>
          <p:spPr>
            <a:xfrm>
              <a:off x="1404360" y="11790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465800" y="1128600"/>
            <a:ext cx="1615680" cy="1565280"/>
            <a:chOff x="4465800" y="1128600"/>
            <a:chExt cx="1615680" cy="1565280"/>
          </a:xfrm>
        </p:grpSpPr>
        <p:sp>
          <p:nvSpPr>
            <p:cNvPr id="831" name=""/>
            <p:cNvSpPr/>
            <p:nvPr/>
          </p:nvSpPr>
          <p:spPr>
            <a:xfrm>
              <a:off x="4465800" y="1128600"/>
              <a:ext cx="1603800" cy="1565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d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11280" y="1279800"/>
              <a:ext cx="970200" cy="124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02640" y="1289160"/>
              <a:ext cx="64800" cy="123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14600" y="1432440"/>
              <a:ext cx="792720" cy="41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6320" y="1930320"/>
              <a:ext cx="816120" cy="41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6" name=""/>
          <p:cNvGraphicFramePr/>
          <p:nvPr/>
        </p:nvGraphicFramePr>
        <p:xfrm>
          <a:off x="4541760" y="1608120"/>
          <a:ext cx="533520" cy="6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1760" y="1608120"/>
                    <a:ext cx="533520" cy="684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99960" y="1447920"/>
            <a:ext cx="3113280" cy="28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9600" y="1677600"/>
            <a:ext cx="8434440" cy="354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Trac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6026040" y="1484280"/>
            <a:ext cx="1943280" cy="2643120"/>
          </a:xfrm>
          <a:prstGeom prst="rect">
            <a:avLst/>
          </a:prstGeom>
          <a:ln w="0">
            <a:noFill/>
          </a:ln>
        </p:spPr>
      </p:pic>
      <p:grpSp>
        <p:nvGrpSpPr>
          <p:cNvPr id="842" name=""/>
          <p:cNvGrpSpPr/>
          <p:nvPr/>
        </p:nvGrpSpPr>
        <p:grpSpPr>
          <a:xfrm>
            <a:off x="4144680" y="2430000"/>
            <a:ext cx="3689640" cy="3291840"/>
            <a:chOff x="4144680" y="2430000"/>
            <a:chExt cx="3689640" cy="3291840"/>
          </a:xfrm>
        </p:grpSpPr>
        <p:sp>
          <p:nvSpPr>
            <p:cNvPr id="843" name=""/>
            <p:cNvSpPr/>
            <p:nvPr/>
          </p:nvSpPr>
          <p:spPr>
            <a:xfrm rot="2383800">
              <a:off x="4179600" y="3189240"/>
              <a:ext cx="685800" cy="246240"/>
            </a:xfrm>
            <a:custGeom>
              <a:avLst/>
              <a:gdLst/>
              <a:ahLst/>
              <a:rect l="l" t="t" r="r" b="b"/>
              <a:pathLst>
                <a:path w="534" h="192">
                  <a:moveTo>
                    <a:pt x="0" y="0"/>
                  </a:moveTo>
                  <a:lnTo>
                    <a:pt x="534" y="0"/>
                  </a:lnTo>
                  <a:lnTo>
                    <a:pt x="474" y="192"/>
                  </a:lnTo>
                  <a:lnTo>
                    <a:pt x="26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383800">
              <a:off x="3984120" y="3601800"/>
              <a:ext cx="4010040" cy="947520"/>
            </a:xfrm>
            <a:custGeom>
              <a:avLst/>
              <a:gdLst/>
              <a:ahLst/>
              <a:rect l="l" t="t" r="r" b="b"/>
              <a:pathLst>
                <a:path w="3122" h="738">
                  <a:moveTo>
                    <a:pt x="0" y="228"/>
                  </a:moveTo>
                  <a:lnTo>
                    <a:pt x="53" y="165"/>
                  </a:lnTo>
                  <a:lnTo>
                    <a:pt x="104" y="111"/>
                  </a:lnTo>
                  <a:lnTo>
                    <a:pt x="158" y="61"/>
                  </a:lnTo>
                  <a:lnTo>
                    <a:pt x="215" y="24"/>
                  </a:lnTo>
                  <a:lnTo>
                    <a:pt x="264" y="0"/>
                  </a:lnTo>
                  <a:lnTo>
                    <a:pt x="552" y="0"/>
                  </a:lnTo>
                  <a:lnTo>
                    <a:pt x="846" y="222"/>
                  </a:lnTo>
                  <a:lnTo>
                    <a:pt x="2983" y="222"/>
                  </a:lnTo>
                  <a:lnTo>
                    <a:pt x="3029" y="233"/>
                  </a:lnTo>
                  <a:lnTo>
                    <a:pt x="3062" y="251"/>
                  </a:lnTo>
                  <a:lnTo>
                    <a:pt x="3086" y="272"/>
                  </a:lnTo>
                  <a:lnTo>
                    <a:pt x="3102" y="299"/>
                  </a:lnTo>
                  <a:lnTo>
                    <a:pt x="3113" y="338"/>
                  </a:lnTo>
                  <a:lnTo>
                    <a:pt x="3122" y="390"/>
                  </a:lnTo>
                  <a:lnTo>
                    <a:pt x="3119" y="441"/>
                  </a:lnTo>
                  <a:lnTo>
                    <a:pt x="3110" y="476"/>
                  </a:lnTo>
                  <a:lnTo>
                    <a:pt x="3093" y="512"/>
                  </a:lnTo>
                  <a:lnTo>
                    <a:pt x="3066" y="543"/>
                  </a:lnTo>
                  <a:lnTo>
                    <a:pt x="3035" y="560"/>
                  </a:lnTo>
                  <a:lnTo>
                    <a:pt x="2990" y="564"/>
                  </a:lnTo>
                  <a:lnTo>
                    <a:pt x="864" y="564"/>
                  </a:lnTo>
                  <a:lnTo>
                    <a:pt x="504" y="738"/>
                  </a:lnTo>
                  <a:lnTo>
                    <a:pt x="462" y="540"/>
                  </a:lnTo>
                  <a:lnTo>
                    <a:pt x="390" y="282"/>
                  </a:lnTo>
                  <a:lnTo>
                    <a:pt x="28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383800">
              <a:off x="4992120" y="4269600"/>
              <a:ext cx="2644560" cy="2617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383800">
              <a:off x="7176960" y="5109120"/>
              <a:ext cx="292680" cy="26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383800">
              <a:off x="5008320" y="3078000"/>
              <a:ext cx="169200" cy="414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383800">
              <a:off x="4995000" y="3122640"/>
              <a:ext cx="198720" cy="416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862520" y="3089880"/>
              <a:ext cx="459000" cy="480600"/>
              <a:chOff x="4862520" y="3089880"/>
              <a:chExt cx="459000" cy="480600"/>
            </a:xfrm>
          </p:grpSpPr>
          <p:sp>
            <p:nvSpPr>
              <p:cNvPr id="850" name=""/>
              <p:cNvSpPr/>
              <p:nvPr/>
            </p:nvSpPr>
            <p:spPr>
              <a:xfrm rot="2383800">
                <a:off x="4991760" y="3053520"/>
                <a:ext cx="3816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383800">
                <a:off x="5153760" y="3188160"/>
                <a:ext cx="38520" cy="418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5058000" y="3129120"/>
                <a:ext cx="237240" cy="190800"/>
                <a:chOff x="5058000" y="3129120"/>
                <a:chExt cx="237240" cy="190800"/>
              </a:xfrm>
            </p:grpSpPr>
            <p:sp>
              <p:nvSpPr>
                <p:cNvPr id="853" name=""/>
                <p:cNvSpPr/>
                <p:nvPr/>
              </p:nvSpPr>
              <p:spPr>
                <a:xfrm rot="2383800">
                  <a:off x="5092200" y="3171960"/>
                  <a:ext cx="17208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2383800">
                  <a:off x="5069160" y="3161160"/>
                  <a:ext cx="5508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2383800">
                  <a:off x="5227200" y="323172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002920" y="3201480"/>
                <a:ext cx="236880" cy="190440"/>
                <a:chOff x="5002920" y="3201480"/>
                <a:chExt cx="236880" cy="190440"/>
              </a:xfrm>
            </p:grpSpPr>
            <p:sp>
              <p:nvSpPr>
                <p:cNvPr id="857" name=""/>
                <p:cNvSpPr/>
                <p:nvPr/>
              </p:nvSpPr>
              <p:spPr>
                <a:xfrm rot="2383800">
                  <a:off x="5036760" y="324396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2383800">
                  <a:off x="5014080" y="323352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2383800">
                  <a:off x="5171400" y="3304080"/>
                  <a:ext cx="56160" cy="5760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4943520" y="3269160"/>
                <a:ext cx="236520" cy="190440"/>
                <a:chOff x="4943520" y="3269160"/>
                <a:chExt cx="236520" cy="190440"/>
              </a:xfrm>
            </p:grpSpPr>
            <p:sp>
              <p:nvSpPr>
                <p:cNvPr id="861" name=""/>
                <p:cNvSpPr/>
                <p:nvPr/>
              </p:nvSpPr>
              <p:spPr>
                <a:xfrm rot="2383800">
                  <a:off x="4977360" y="3311640"/>
                  <a:ext cx="171720" cy="105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2383800">
                  <a:off x="4954680" y="3301200"/>
                  <a:ext cx="54720" cy="5508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2383800">
                  <a:off x="5112000" y="337176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4884480" y="3342240"/>
                <a:ext cx="236880" cy="190440"/>
                <a:chOff x="4884480" y="3342240"/>
                <a:chExt cx="236880" cy="190440"/>
              </a:xfrm>
            </p:grpSpPr>
            <p:sp>
              <p:nvSpPr>
                <p:cNvPr id="865" name=""/>
                <p:cNvSpPr/>
                <p:nvPr/>
              </p:nvSpPr>
              <p:spPr>
                <a:xfrm rot="2383800">
                  <a:off x="4918320" y="3385080"/>
                  <a:ext cx="172080" cy="10476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130" y="0"/>
                      </a:moveTo>
                      <a:lnTo>
                        <a:pt x="0" y="37"/>
                      </a:lnTo>
                      <a:lnTo>
                        <a:pt x="1" y="82"/>
                      </a:lnTo>
                      <a:lnTo>
                        <a:pt x="134" y="46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2383800">
                  <a:off x="4895280" y="3374280"/>
                  <a:ext cx="55080" cy="5472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2383800">
                  <a:off x="5053320" y="3444840"/>
                  <a:ext cx="56160" cy="572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09520" y="4170240"/>
            <a:ext cx="8327880" cy="212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19920" y="2044800"/>
            <a:ext cx="73656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696000" y="1422360"/>
            <a:ext cx="1793880" cy="1047960"/>
          </a:xfrm>
          <a:prstGeom prst="can">
            <a:avLst>
              <a:gd name="adj" fmla="val 17180"/>
            </a:avLst>
          </a:prstGeom>
          <a:gradFill rotWithShape="0">
            <a:gsLst>
              <a:gs pos="0">
                <a:srgbClr val="001f49"/>
              </a:gs>
              <a:gs pos="50000">
                <a:srgbClr val="0045a0"/>
              </a:gs>
              <a:gs pos="100000">
                <a:srgbClr val="001f4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99160" y="1627200"/>
            <a:ext cx="22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ker Attribute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l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M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21240" y="1222200"/>
            <a:ext cx="1787400" cy="16970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c1100"/>
              </a:gs>
              <a:gs pos="50000">
                <a:srgbClr val="ff9900"/>
              </a:gs>
              <a:gs pos="100000">
                <a:srgbClr val="1c11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43600" y="2174760"/>
          <a:ext cx="6840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174760"/>
                    <a:ext cx="684000" cy="6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4d4d4d"/>
                    </a:outerShdw>
                  </a:effectLst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4810680" y="1197000"/>
            <a:ext cx="122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4114800" y="3060720"/>
            <a:ext cx="5029200" cy="828720"/>
            <a:chOff x="4114800" y="3060720"/>
            <a:chExt cx="5029200" cy="828720"/>
          </a:xfrm>
        </p:grpSpPr>
        <p:sp>
          <p:nvSpPr>
            <p:cNvPr id="878" name=""/>
            <p:cNvSpPr/>
            <p:nvPr/>
          </p:nvSpPr>
          <p:spPr>
            <a:xfrm>
              <a:off x="4114800" y="3060720"/>
              <a:ext cx="4419720" cy="828720"/>
            </a:xfrm>
            <a:prstGeom prst="wedgeRectCallout">
              <a:avLst>
                <a:gd name="adj1" fmla="val 41129"/>
                <a:gd name="adj2" fmla="val -151041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35400" y="3103560"/>
              <a:ext cx="490860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7280" indent="-2872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99"/>
                  </a:solidFill>
                  <a:latin typeface="Arial"/>
                </a:rPr>
                <a:t>ACCOUNTING = {</a:t>
              </a:r>
              <a:r>
                <a:rPr b="0" lang="de-DE" sz="1600" spc="-1" strike="noStrike" u="sng">
                  <a:solidFill>
                    <a:srgbClr val="000099"/>
                  </a:solidFill>
                  <a:uFillTx/>
                  <a:latin typeface="Arial"/>
                </a:rPr>
                <a:t>NO</a:t>
              </a:r>
              <a:r>
                <a:rPr b="0" lang="de-DE" sz="1600" spc="-1" strike="noStrike">
                  <a:solidFill>
                    <a:srgbClr val="000099"/>
                  </a:solidFill>
                  <a:latin typeface="Arial"/>
                </a:rPr>
                <a:t> | 128 ... 255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7280" indent="-2872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4d4d4d"/>
                  </a:solidFill>
                  <a:latin typeface="Arial"/>
                </a:rPr>
                <a:t>                         </a:t>
              </a:r>
              <a:r>
                <a:rPr b="0" i="1" lang="en-US" sz="1600" spc="-1" strike="noStrike">
                  <a:solidFill>
                    <a:srgbClr val="4d4d4d"/>
                  </a:solidFill>
                  <a:latin typeface="Arial"/>
                </a:rPr>
                <a:t>(SMF Record Type)</a:t>
              </a:r>
              <a:r>
                <a:rPr b="0" lang="de-DE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55680" y="1371600"/>
            <a:ext cx="4064040" cy="1434960"/>
            <a:chOff x="355680" y="1371600"/>
            <a:chExt cx="4064040" cy="1434960"/>
          </a:xfrm>
        </p:grpSpPr>
        <p:sp>
          <p:nvSpPr>
            <p:cNvPr id="881" name=""/>
            <p:cNvSpPr/>
            <p:nvPr/>
          </p:nvSpPr>
          <p:spPr>
            <a:xfrm>
              <a:off x="2463840" y="1587600"/>
              <a:ext cx="1955880" cy="901440"/>
            </a:xfrm>
            <a:prstGeom prst="leftArrow">
              <a:avLst>
                <a:gd name="adj1" fmla="val 50000"/>
                <a:gd name="adj2" fmla="val 5424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61000" y="1749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ccoun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5680" y="1371600"/>
              <a:ext cx="2025720" cy="1434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Arial"/>
                </a:rPr>
                <a:t>IBM</a:t>
              </a:r>
              <a:br>
                <a:rPr sz="3200"/>
              </a:br>
              <a:r>
                <a:rPr b="1" lang="de-DE" sz="3200" spc="-1" strike="noStrike">
                  <a:solidFill>
                    <a:srgbClr val="ffffff"/>
                  </a:solidFill>
                  <a:latin typeface="Arial"/>
                </a:rPr>
                <a:t>SM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1.PARMLIB(IEASMFx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8019360" y="9795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Arial"/>
              </a:rPr>
              <a:t>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238720" y="4965840"/>
            <a:ext cx="749160" cy="977760"/>
            <a:chOff x="5238720" y="4965840"/>
            <a:chExt cx="749160" cy="977760"/>
          </a:xfrm>
        </p:grpSpPr>
        <p:sp>
          <p:nvSpPr>
            <p:cNvPr id="886" name=""/>
            <p:cNvSpPr/>
            <p:nvPr/>
          </p:nvSpPr>
          <p:spPr>
            <a:xfrm>
              <a:off x="5238720" y="5067360"/>
              <a:ext cx="749160" cy="825480"/>
            </a:xfrm>
            <a:prstGeom prst="bracePair">
              <a:avLst>
                <a:gd name="adj" fmla="val 8333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38720" y="4965840"/>
              <a:ext cx="209520" cy="977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16000" y="4224240"/>
            <a:ext cx="892800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249"/>
              </a:spcBef>
              <a:spcAft>
                <a:spcPts val="249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counting on zOS in System Management Facility (SMF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9"/>
              </a:spcBef>
              <a:spcAft>
                <a:spcPts val="249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y standard for accounting and performanc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9"/>
              </a:spcBef>
              <a:spcAft>
                <a:spcPts val="249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pping defined v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mbler macro with mapping DSECT  (EXXAC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/C++ header file  (EXXC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3577d9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mple SAS data step (EXXS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2761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114960" y="5363280"/>
            <a:ext cx="184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EXX sourc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04920" y="1168560"/>
            <a:ext cx="8254800" cy="4736880"/>
          </a:xfrm>
          <a:prstGeom prst="leftArrow">
            <a:avLst>
              <a:gd name="adj1" fmla="val 91491"/>
              <a:gd name="adj2" fmla="val 10795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unting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62120" y="1638360"/>
            <a:ext cx="24001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Requests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Byte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Byte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Message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Message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UOW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UOW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Completion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 Communication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8e4"/>
                </a:solidFill>
                <a:latin typeface="Arial"/>
              </a:rPr>
              <a:t>LU Names (Local and     </a:t>
            </a:r>
            <a:br>
              <a:rPr sz="1200"/>
            </a:br>
            <a:r>
              <a:rPr b="1" lang="en-US" sz="1200" spc="-1" strike="noStrike">
                <a:solidFill>
                  <a:srgbClr val="0088e4"/>
                </a:solidFill>
                <a:latin typeface="Arial"/>
              </a:rPr>
              <a:t>                   Rem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8e4"/>
                </a:solidFill>
                <a:latin typeface="Arial"/>
              </a:rPr>
              <a:t>TP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8e4"/>
                </a:solidFill>
                <a:latin typeface="Arial"/>
              </a:rPr>
              <a:t>MQ Queue Names (Request </a:t>
            </a:r>
            <a:br>
              <a:rPr sz="1200"/>
            </a:br>
            <a:r>
              <a:rPr b="1" lang="en-US" sz="1200" spc="-1" strike="noStrike">
                <a:solidFill>
                  <a:srgbClr val="0088e4"/>
                </a:solidFill>
                <a:latin typeface="Arial"/>
              </a:rPr>
              <a:t>                                and Rep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505320" y="1638360"/>
            <a:ext cx="2286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Requests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Byte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Byte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Message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Message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UOWs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UOW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 Completion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Communication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324480" y="1638360"/>
            <a:ext cx="213372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Conversation Be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Conversation 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Conversation Clean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Accounting Recor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versation CPU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versatio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ireX Id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ireX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ireX Start Time/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51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ree major Timeout parameters in EntireX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a0"/>
                </a:solidFill>
                <a:latin typeface="Arial"/>
              </a:rPr>
              <a:t>SERVER-NONACT (Services Default Sect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a0"/>
                </a:solidFill>
                <a:latin typeface="Arial"/>
              </a:rPr>
              <a:t>CLIENT-NONACT   (Broker Default Sect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5a0"/>
                </a:solidFill>
                <a:latin typeface="Arial"/>
              </a:rPr>
              <a:t>CONV-NONACT      (Services Default Sect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RVER-NONAC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Non-activity time for servers. If a server that does not issue a Broker request within the specified time limit is treated as inactive and all resources for the server are freed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nder normal operations, the Server resources are released  when the DEREGISTER and LOGOFF functions occur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race Information for normal request (Deregister/Logoff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OM/PCBD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2006-08-22 10:53:59.533 ETBD0281 Cleaned up:              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ID    = EXX-SADHU-SRV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que-ID = 20205341444855312D2D30303030303231302D2D30303030303234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58920" y="1039680"/>
            <a:ext cx="8497800" cy="363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2440" y="1114560"/>
            <a:ext cx="1285920" cy="903240"/>
          </a:xfrm>
          <a:prstGeom prst="rect">
            <a:avLst/>
          </a:prstGeom>
          <a:gradFill rotWithShape="0">
            <a:gsLst>
              <a:gs pos="0">
                <a:srgbClr val="001f49"/>
              </a:gs>
              <a:gs pos="50000">
                <a:srgbClr val="0045a0"/>
              </a:gs>
              <a:gs pos="100000">
                <a:srgbClr val="001f4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15160" y="2259000"/>
            <a:ext cx="1285920" cy="8413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t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3000" y="1076400"/>
            <a:ext cx="3587760" cy="3389400"/>
          </a:xfrm>
          <a:prstGeom prst="octagon">
            <a:avLst>
              <a:gd name="adj" fmla="val 22134"/>
            </a:avLst>
          </a:prstGeom>
          <a:gradFill rotWithShape="0">
            <a:gsLst>
              <a:gs pos="0">
                <a:srgbClr val="7e4b00"/>
              </a:gs>
              <a:gs pos="50000">
                <a:srgbClr val="ff9900"/>
              </a:gs>
              <a:gs pos="100000">
                <a:srgbClr val="7e4b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3320" y="10810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mand and Info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37000" y="3290760"/>
            <a:ext cx="1596960" cy="1000080"/>
            <a:chOff x="4437000" y="3290760"/>
            <a:chExt cx="1596960" cy="1000080"/>
          </a:xfrm>
        </p:grpSpPr>
        <p:sp>
          <p:nvSpPr>
            <p:cNvPr id="131" name=""/>
            <p:cNvSpPr/>
            <p:nvPr/>
          </p:nvSpPr>
          <p:spPr>
            <a:xfrm>
              <a:off x="4437000" y="3307320"/>
              <a:ext cx="1596960" cy="978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376800"/>
              <a:ext cx="1447200" cy="815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86400" y="3445560"/>
              <a:ext cx="1287360" cy="66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36160" y="3503520"/>
              <a:ext cx="1022760" cy="528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4040" y="3583440"/>
              <a:ext cx="735120" cy="344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5760" y="3653280"/>
              <a:ext cx="423000" cy="194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902480" y="3325320"/>
              <a:ext cx="608760" cy="9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35120" y="3290760"/>
              <a:ext cx="1152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05440" y="3325320"/>
              <a:ext cx="482400" cy="9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59200" y="3405240"/>
              <a:ext cx="99072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6400" y="3508560"/>
              <a:ext cx="1353240" cy="52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4440" y="3620880"/>
              <a:ext cx="1559520" cy="27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457160" y="3637800"/>
              <a:ext cx="155052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09000" y="3526920"/>
              <a:ext cx="139572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663800" y="3413880"/>
              <a:ext cx="1060200" cy="74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V="1">
            <a:off x="3995640" y="3742920"/>
            <a:ext cx="3191040" cy="9720"/>
          </a:xfrm>
          <a:prstGeom prst="line">
            <a:avLst/>
          </a:prstGeom>
          <a:ln w="381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4960" y="4826160"/>
            <a:ext cx="7836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8440" indent="-568440">
              <a:spcBef>
                <a:spcPts val="224"/>
              </a:spcBef>
              <a:spcAft>
                <a:spcPts val="224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al services in the Broker: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Command servic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User-Info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24"/>
              </a:spcBef>
              <a:spcAft>
                <a:spcPts val="224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ministration an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24"/>
              </a:spcBef>
              <a:spcAft>
                <a:spcPts val="224"/>
              </a:spcAft>
              <a:buClr>
                <a:srgbClr val="3577d9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n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7440" y="3060720"/>
            <a:ext cx="1990800" cy="9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AG ETBCIS CM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AG ETBCIS INF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AG ETBCIS INFO-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17880" y="1793880"/>
            <a:ext cx="1317600" cy="1100160"/>
            <a:chOff x="2117880" y="1793880"/>
            <a:chExt cx="1317600" cy="1100160"/>
          </a:xfrm>
        </p:grpSpPr>
        <p:grpSp>
          <p:nvGrpSpPr>
            <p:cNvPr id="150" name=""/>
            <p:cNvGrpSpPr/>
            <p:nvPr/>
          </p:nvGrpSpPr>
          <p:grpSpPr>
            <a:xfrm>
              <a:off x="2125080" y="2040840"/>
              <a:ext cx="1296360" cy="73440"/>
              <a:chOff x="2125080" y="2040840"/>
              <a:chExt cx="1296360" cy="73440"/>
            </a:xfrm>
          </p:grpSpPr>
          <p:sp>
            <p:nvSpPr>
              <p:cNvPr id="151" name=""/>
              <p:cNvSpPr/>
              <p:nvPr/>
            </p:nvSpPr>
            <p:spPr>
              <a:xfrm>
                <a:off x="212508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8816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4836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0856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6876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3184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9528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58360" y="2040840"/>
                <a:ext cx="163080" cy="73440"/>
              </a:xfrm>
              <a:prstGeom prst="rect">
                <a:avLst/>
              </a:prstGeom>
              <a:solidFill>
                <a:srgbClr val="0045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25080" y="1793880"/>
              <a:ext cx="1310400" cy="82080"/>
              <a:chOff x="2125080" y="1793880"/>
              <a:chExt cx="1310400" cy="820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2508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996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5196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1396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7596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084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0572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70600" y="1793880"/>
                <a:ext cx="164880" cy="82080"/>
              </a:xfrm>
              <a:prstGeom prst="rect">
                <a:avLst/>
              </a:prstGeom>
              <a:solidFill>
                <a:srgbClr val="c9cfa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127960" y="2258280"/>
              <a:ext cx="1286280" cy="82080"/>
              <a:chOff x="2127960" y="2258280"/>
              <a:chExt cx="1286280" cy="82080"/>
            </a:xfrm>
          </p:grpSpPr>
          <p:sp>
            <p:nvSpPr>
              <p:cNvPr id="169" name=""/>
              <p:cNvSpPr/>
              <p:nvPr/>
            </p:nvSpPr>
            <p:spPr>
              <a:xfrm>
                <a:off x="212796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960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44872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784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6660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860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9060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52600" y="2258280"/>
                <a:ext cx="161640" cy="82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131560" y="2815920"/>
              <a:ext cx="1272240" cy="78120"/>
              <a:chOff x="2131560" y="2815920"/>
              <a:chExt cx="1272240" cy="78120"/>
            </a:xfrm>
          </p:grpSpPr>
          <p:sp>
            <p:nvSpPr>
              <p:cNvPr id="178" name=""/>
              <p:cNvSpPr/>
              <p:nvPr/>
            </p:nvSpPr>
            <p:spPr>
              <a:xfrm>
                <a:off x="213156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9140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4872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0604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6336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2356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8376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43960" y="2815920"/>
                <a:ext cx="159840" cy="78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117880" y="2521800"/>
              <a:ext cx="1272240" cy="78120"/>
              <a:chOff x="2117880" y="2521800"/>
              <a:chExt cx="1272240" cy="78120"/>
            </a:xfrm>
          </p:grpSpPr>
          <p:sp>
            <p:nvSpPr>
              <p:cNvPr id="187" name=""/>
              <p:cNvSpPr/>
              <p:nvPr/>
            </p:nvSpPr>
            <p:spPr>
              <a:xfrm>
                <a:off x="2117880" y="2521800"/>
                <a:ext cx="16020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78080" y="2521800"/>
                <a:ext cx="16020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35040" y="2521800"/>
                <a:ext cx="16020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92720" y="2521800"/>
                <a:ext cx="15984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50040" y="2521800"/>
                <a:ext cx="15984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09880" y="2521800"/>
                <a:ext cx="16020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70080" y="2521800"/>
                <a:ext cx="16020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30280" y="2521800"/>
                <a:ext cx="15984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 flipH="1">
            <a:off x="3710880" y="1954080"/>
            <a:ext cx="420840" cy="1893960"/>
          </a:xfrm>
          <a:custGeom>
            <a:avLst/>
            <a:gdLst>
              <a:gd name="textAreaLeft" fmla="*/ 56160 w 420840"/>
              <a:gd name="textAreaRight" fmla="*/ 364680 w 420840"/>
              <a:gd name="textAreaTop" fmla="*/ 317880 h 1893960"/>
              <a:gd name="textAreaBottom" fmla="*/ 138672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56" stAng="-5400000" swAng="-5400000"/>
                <a:lnTo>
                  <a:pt x="0" y="12185"/>
                </a:lnTo>
                <a:arcTo wR="21600" hR="7256" stAng="10800000" swAng="-2292667"/>
                <a:lnTo>
                  <a:pt x="13123" y="21018"/>
                </a:lnTo>
                <a:lnTo>
                  <a:pt x="21600" y="16976"/>
                </a:lnTo>
                <a:lnTo>
                  <a:pt x="13123" y="11769"/>
                </a:lnTo>
                <a:lnTo>
                  <a:pt x="13123" y="13929"/>
                </a:lnTo>
                <a:arcTo wR="21600" hR="7256" stAng="8507333" swAng="1877662"/>
                <a:lnTo>
                  <a:pt x="1284" y="9720"/>
                </a:lnTo>
                <a:arcTo wR="21600" hR="7256" stAng="-10384995" swAng="4984995"/>
                <a:close/>
              </a:path>
              <a:path fill="darkenLess" w="21600" h="21600">
                <a:moveTo>
                  <a:pt x="21600" y="0"/>
                </a:moveTo>
                <a:arcTo wR="21600" hR="7256" stAng="-5400000" swAng="-5400000"/>
                <a:lnTo>
                  <a:pt x="0" y="7256"/>
                </a:lnTo>
                <a:arcTo wR="21600" hR="7256" stAng="10800000" swAng="-415005"/>
                <a:lnTo>
                  <a:pt x="1284" y="9720"/>
                </a:lnTo>
                <a:arcTo wR="21600" hR="7256" stAng="-10384995" swAng="4984995"/>
                <a:close/>
              </a:path>
            </a:pathLst>
          </a:custGeom>
          <a:solidFill>
            <a:srgbClr val="0045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94640" y="291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8e4"/>
                </a:solidFill>
                <a:latin typeface="Arial"/>
              </a:rPr>
              <a:t>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15760" y="323136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0040" y="3378240"/>
            <a:ext cx="1992240" cy="0"/>
          </a:xfrm>
          <a:prstGeom prst="line">
            <a:avLst/>
          </a:prstGeom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0040" y="3724200"/>
            <a:ext cx="1992240" cy="0"/>
          </a:xfrm>
          <a:prstGeom prst="line">
            <a:avLst/>
          </a:prstGeom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0880" y="3068640"/>
            <a:ext cx="0" cy="976320"/>
          </a:xfrm>
          <a:prstGeom prst="line">
            <a:avLst/>
          </a:prstGeom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7120" y="3068640"/>
            <a:ext cx="0" cy="976320"/>
          </a:xfrm>
          <a:prstGeom prst="line">
            <a:avLst/>
          </a:prstGeom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283440" y="3309840"/>
          <a:ext cx="141588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3440" y="3309840"/>
                    <a:ext cx="1415880" cy="90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4d4d4d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SERVER-NONACT timer invok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imeout Manager performs the follow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MH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EXX-SADHU-SRV 20205341444855312D2D30303030303231302D2D3030303030323430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elete the Server resources at SERVER-NONACT=1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M/PCBDEL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 2006-08-22 11:19:43.996 ETBD0281 Cleaned up:              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serID    = EXX-SADHU-SRV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Unique-ID = 20205341444855312D2D30303030303231302D2D3030303030323430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M/SCBDEL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 2006-08-22 11:19:43.996 ETBD0281 Cleaned up:              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                                            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Server........... ASERVER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                                            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Class............ ACLASS                                                                         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                                              </a:t>
            </a: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Service.......... ASERVICE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Cl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LIENT-NONAC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fines the non-activity time for client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A client that does not issue a Broker request within the specified time limit is treated as inactive and all resources for the client are freed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nder normal operations, the Client resources are released  when the LOGOFF functions occu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Cl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LIENT-NONACT Trace Inform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nd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W00/ETBXWKR  2006-08-22 10:48:09.971 ETBD0282 SPFX Values: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refix    = 80000318630000001800000000000000C500000069010000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nique-ID = 20205341444855312D2D30303030303942342D2D3030303030344530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Key string: BID=ETB001,F=SEND,UID=EXX-SADHU-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LIENT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D=NEW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W=60S,SC=ACLASS,SN=ASERVER,SV=ASERVICE,SL=75,RL=75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Acknowledge Send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W00/ETBREPL  2006-08-22 10:48:09.971 ETBD0282 SPFX Values: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refix    = 8000041863000000180000005CC1D5E2FD00000001010000E97E59E1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nique-ID = 20205341444855312D2D30303030303231302D2D3030303030323430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Reply Strg: EC=00000000,TXT=Successful response ,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D=0000000000000009,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RETL=00000075,CUID=EXX-SADHU-CLIENT, CST=NEW,UOWST=RECV _NONE.      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Data Receive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MH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X-SADHU-CLIENT 20205341444855312D2D30303030303942342D2D3030303030344530  not waiting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Delete the Client resources at  CLIENT-NONACT=1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OM/PCBDEL   2006-08-22 10:49:09.334 ETBD0281 Cleaned up: 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UserID    = EXX-SADHU-CLIENT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Unique-ID = 20205341444855312D2D30303030303942342D2D3030303030344530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OM/CONVDEL  2006-08-22 10:49:09.334 ETBD0281 Cleaned up: 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onversation....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000000000000009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CON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V-NONAC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efines the Non-activity time for conne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If a connection is not used for the specified time or a server or a client does not issue a Broker request that references the connection (conversation) in any way, the connection is treated as inactive and the allocated resources are freed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nder normal operations, the conversation resources are released  when the LOGOFF functions occur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7464600" y="5029200"/>
            <a:ext cx="116352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CON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NV-NONACT Trace Inform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W02/ETBXWKR  2006-08-22 10:28:16.809 ETBD0282 SPFX Values: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refix    = 80000318630000001800000000000000C500000069010000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nique-ID = 20205341444855312D2D30303030303942342D2D3030303030344530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Key string: BID=ETB001,F=SEND,UID=EXX-SADHU-CLIENT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D=NEW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,W=60S,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SC=ACLASS,SN=ASERVER,SV=ASERVICE,SL=75,RL=75.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Bin string: 01002000202020202020202020202020202020202020202020202020202020202020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Acknowledge of SEND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W02/ETBREPL  2006-08-22 10:28:16.809 ETBD0282 SPFX Values: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Prefix    = 8000041863000000180000005CC1D5E2FD000000010100003D687078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Unique-ID = 20205341444855312D2D30303030303231302D2D3030303030323430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Reply Strg: EC=00000000,TXT=Successful response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D=0000000000000016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RETL=00000075,CUID=EXX-SADHU-CLIENT,CST=NEW,UOWST=RECV_NONE.      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Bin string: 02000000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SMH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000000000000016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  00000000000000000000000000000000000000000000000000000000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EXX-SADHU-CLIENT </a:t>
            </a: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Delete the Connection resources at CONV-NONACT=1M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OM/CONVDEL  2006-08-22 10:29:16.001 ETBD0281 Cleaned up:                                                                                            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onversation.....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000000000000016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751880" y="5315040"/>
            <a:ext cx="1163520" cy="123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X Timeouts -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17080" y="1299960"/>
            <a:ext cx="8697960" cy="52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Use the LOGOFF function – it will release the EntireX resources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 Fun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G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D, WAIT=60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GOF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92200" indent="-29376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erver Fun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G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ECEIVE, WAIT=10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D, WAIT=N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REGIST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GOFF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843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7751880" y="5315040"/>
            <a:ext cx="1163520" cy="123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8360" y="1498680"/>
            <a:ext cx="68025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ed how to troubleshoot EntireX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f the Common Errors discuss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X Trace Facil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X Kernel Trac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cc0000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levels of tracing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ub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g Tra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cc0000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levels of tracing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ML RPC Serv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342720"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ML Servle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857160" indent="-342720">
              <a:spcBef>
                <a:spcPts val="45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 RPC Serv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99960" indent="-399960">
              <a:spcBef>
                <a:spcPts val="400"/>
              </a:spcBef>
              <a:buClr>
                <a:srgbClr val="cc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X Timeou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9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1120" y="144792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257560" y="3257640"/>
            <a:ext cx="476244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60880" y="2427120"/>
            <a:ext cx="5895720" cy="3389400"/>
            <a:chOff x="3260880" y="2427120"/>
            <a:chExt cx="5895720" cy="3389400"/>
          </a:xfrm>
        </p:grpSpPr>
        <p:sp>
          <p:nvSpPr>
            <p:cNvPr id="205" name=""/>
            <p:cNvSpPr/>
            <p:nvPr/>
          </p:nvSpPr>
          <p:spPr>
            <a:xfrm>
              <a:off x="3368520" y="2514600"/>
              <a:ext cx="5788080" cy="3301920"/>
            </a:xfrm>
            <a:prstGeom prst="leftRightArrow">
              <a:avLst>
                <a:gd name="adj1" fmla="val 77065"/>
                <a:gd name="adj2" fmla="val 35067"/>
              </a:avLst>
            </a:prstGeom>
            <a:gradFill rotWithShape="0">
              <a:gsLst>
                <a:gs pos="0">
                  <a:srgbClr val="003e69"/>
                </a:gs>
                <a:gs pos="50000">
                  <a:srgbClr val="0088e4"/>
                </a:gs>
                <a:gs pos="100000">
                  <a:srgbClr val="003e6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60880" y="2427120"/>
              <a:ext cx="5787720" cy="3302280"/>
            </a:xfrm>
            <a:prstGeom prst="leftRightArrow">
              <a:avLst>
                <a:gd name="adj1" fmla="val 77065"/>
                <a:gd name="adj2" fmla="val 35061"/>
              </a:avLst>
            </a:prstGeom>
            <a:gradFill rotWithShape="0">
              <a:gsLst>
                <a:gs pos="0">
                  <a:srgbClr val="003e69"/>
                </a:gs>
                <a:gs pos="50000">
                  <a:srgbClr val="0088e4"/>
                </a:gs>
                <a:gs pos="100000">
                  <a:srgbClr val="003e6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111480" y="2266920"/>
            <a:ext cx="5788080" cy="3301920"/>
          </a:xfrm>
          <a:prstGeom prst="leftRightArrow">
            <a:avLst>
              <a:gd name="adj1" fmla="val 77065"/>
              <a:gd name="adj2" fmla="val 35067"/>
            </a:avLst>
          </a:prstGeom>
          <a:gradFill rotWithShape="0">
            <a:gsLst>
              <a:gs pos="0">
                <a:srgbClr val="003e69"/>
              </a:gs>
              <a:gs pos="50000">
                <a:srgbClr val="0088e4"/>
              </a:gs>
              <a:gs pos="100000">
                <a:srgbClr val="003e6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76560" y="3079800"/>
            <a:ext cx="4192560" cy="65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fo Service Interface</a:t>
            </a:r>
            <a:r>
              <a:rPr b="1" i="1" lang="de-DE" sz="2400" spc="-1" strike="noStrike">
                <a:solidFill>
                  <a:srgbClr val="0088e4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13200" y="328284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66"/>
                </a:solidFill>
                <a:latin typeface="Arial"/>
              </a:rPr>
              <a:t>Send Buffer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913200" y="3809880"/>
            <a:ext cx="4255920" cy="1058400"/>
            <a:chOff x="3913200" y="3809880"/>
            <a:chExt cx="4255920" cy="1058400"/>
          </a:xfrm>
        </p:grpSpPr>
        <p:sp>
          <p:nvSpPr>
            <p:cNvPr id="212" name=""/>
            <p:cNvSpPr/>
            <p:nvPr/>
          </p:nvSpPr>
          <p:spPr>
            <a:xfrm>
              <a:off x="3976560" y="3809880"/>
              <a:ext cx="4192560" cy="92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13200" y="3951360"/>
              <a:ext cx="38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66"/>
                  </a:solidFill>
                  <a:latin typeface="Arial"/>
                </a:rPr>
                <a:t>Receive Buffer: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Header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bject Type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673600" y="1125360"/>
            <a:ext cx="3078360" cy="1905120"/>
            <a:chOff x="5673600" y="1125360"/>
            <a:chExt cx="3078360" cy="1905120"/>
          </a:xfrm>
        </p:grpSpPr>
        <p:sp>
          <p:nvSpPr>
            <p:cNvPr id="215" name=""/>
            <p:cNvSpPr/>
            <p:nvPr/>
          </p:nvSpPr>
          <p:spPr>
            <a:xfrm>
              <a:off x="5673600" y="1125360"/>
              <a:ext cx="3078360" cy="1905120"/>
            </a:xfrm>
            <a:prstGeom prst="cloudCallout">
              <a:avLst>
                <a:gd name="adj1" fmla="val -29166"/>
                <a:gd name="adj2" fmla="val 633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7c8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01000" y="1314360"/>
              <a:ext cx="227916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66"/>
                  </a:solidFill>
                  <a:latin typeface="Arial"/>
                </a:rPr>
                <a:t>Information Obje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66"/>
                  </a:solidFill>
                  <a:latin typeface="Arial"/>
                </a:rPr>
                <a:t>Typ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SERVER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- BROKER 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CLIENT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- WORKER 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CONV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- PSF </a:t>
              </a:r>
              <a:br>
                <a:rPr sz="1400"/>
              </a:b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65040" y="2622600"/>
            <a:ext cx="2613240" cy="2500200"/>
          </a:xfrm>
          <a:prstGeom prst="octagon">
            <a:avLst>
              <a:gd name="adj" fmla="val 22134"/>
            </a:avLst>
          </a:prstGeom>
          <a:gradFill rotWithShape="0">
            <a:gsLst>
              <a:gs pos="0">
                <a:srgbClr val="7e4b00"/>
              </a:gs>
              <a:gs pos="50000">
                <a:srgbClr val="ff9900"/>
              </a:gs>
              <a:gs pos="100000">
                <a:srgbClr val="7e4b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312920" y="3224160"/>
            <a:ext cx="646200" cy="631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25480" y="4713120"/>
            <a:ext cx="1636560" cy="25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51840" y="257796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5480" y="3948120"/>
            <a:ext cx="1635120" cy="60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-Info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06000" y="27147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028960" y="4192560"/>
            <a:ext cx="3079080" cy="2072880"/>
            <a:chOff x="2028960" y="4192560"/>
            <a:chExt cx="3079080" cy="2072880"/>
          </a:xfrm>
        </p:grpSpPr>
        <p:sp>
          <p:nvSpPr>
            <p:cNvPr id="224" name=""/>
            <p:cNvSpPr/>
            <p:nvPr/>
          </p:nvSpPr>
          <p:spPr>
            <a:xfrm>
              <a:off x="2028960" y="4192560"/>
              <a:ext cx="3079080" cy="2072880"/>
            </a:xfrm>
            <a:prstGeom prst="cloudCallout">
              <a:avLst>
                <a:gd name="adj1" fmla="val 71458"/>
                <a:gd name="adj2" fmla="val -484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95520" y="4363200"/>
              <a:ext cx="25200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66"/>
                  </a:solidFill>
                  <a:latin typeface="Arial"/>
                </a:rPr>
                <a:t>Header Inf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ERROR-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TOTAL-NUM-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CURRENT-NUM-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MAX-SC-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MAX-SN-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 MAX-SV-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124080" y="2230560"/>
            <a:ext cx="5788080" cy="3301920"/>
          </a:xfrm>
          <a:prstGeom prst="leftRightArrow">
            <a:avLst>
              <a:gd name="adj1" fmla="val 77065"/>
              <a:gd name="adj2" fmla="val 35067"/>
            </a:avLst>
          </a:prstGeom>
          <a:gradFill rotWithShape="0">
            <a:gsLst>
              <a:gs pos="0">
                <a:srgbClr val="003e69"/>
              </a:gs>
              <a:gs pos="50000">
                <a:srgbClr val="0088e4"/>
              </a:gs>
              <a:gs pos="100000">
                <a:srgbClr val="003e6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76560" y="3282840"/>
            <a:ext cx="4192560" cy="65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2600" y="380880"/>
            <a:ext cx="917748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mand Service Interface</a:t>
            </a:r>
            <a:r>
              <a:rPr b="1" i="1" lang="de-DE" sz="2400" spc="-1" strike="noStrike">
                <a:solidFill>
                  <a:srgbClr val="0088e4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13560" y="328284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66"/>
                </a:solidFill>
                <a:latin typeface="Arial"/>
              </a:rPr>
              <a:t>Send Buffer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and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6560" y="4013280"/>
            <a:ext cx="4192560" cy="72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13200" y="4175280"/>
            <a:ext cx="38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66"/>
                </a:solidFill>
                <a:latin typeface="Arial"/>
              </a:rPr>
              <a:t>Receive Buffer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mon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29360" y="1003320"/>
            <a:ext cx="3622680" cy="1905120"/>
          </a:xfrm>
          <a:prstGeom prst="cloudCallout">
            <a:avLst>
              <a:gd name="adj1" fmla="val 14810"/>
              <a:gd name="adj2" fmla="val 73500"/>
            </a:avLst>
          </a:prstGeom>
          <a:gradFill rotWithShape="0">
            <a:gsLst>
              <a:gs pos="0">
                <a:srgbClr val="ffffff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9520" y="1190520"/>
            <a:ext cx="28324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ommand Object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SERVE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- BROKER      - PSF </a:t>
            </a:r>
            <a:br>
              <a:rPr sz="1400"/>
            </a:b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SHUTDOW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TRACE-ON   - TRACE-OFF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PU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040" y="2622600"/>
            <a:ext cx="2613240" cy="2500200"/>
          </a:xfrm>
          <a:prstGeom prst="octagon">
            <a:avLst>
              <a:gd name="adj" fmla="val 22134"/>
            </a:avLst>
          </a:prstGeom>
          <a:gradFill rotWithShape="0">
            <a:gsLst>
              <a:gs pos="0">
                <a:srgbClr val="7e4b00"/>
              </a:gs>
              <a:gs pos="50000">
                <a:srgbClr val="ff9900"/>
              </a:gs>
              <a:gs pos="100000">
                <a:srgbClr val="7e4b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73040" y="3208320"/>
            <a:ext cx="646200" cy="631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25480" y="4713120"/>
            <a:ext cx="1636560" cy="25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Comm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51840" y="257796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5480" y="3948120"/>
            <a:ext cx="1635120" cy="60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4960" y="28130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62360" y="5008680"/>
            <a:ext cx="2100240" cy="704880"/>
          </a:xfrm>
          <a:prstGeom prst="cloudCallout">
            <a:avLst>
              <a:gd name="adj1" fmla="val 57106"/>
              <a:gd name="adj2" fmla="val -11599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08240" y="519588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ERROR-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87280" y="1028880"/>
            <a:ext cx="8516880" cy="49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6880" y="1447920"/>
            <a:ext cx="6463800" cy="2450520"/>
            <a:chOff x="596880" y="1447920"/>
            <a:chExt cx="6463800" cy="2450520"/>
          </a:xfrm>
        </p:grpSpPr>
        <p:sp>
          <p:nvSpPr>
            <p:cNvPr id="244" name=""/>
            <p:cNvSpPr/>
            <p:nvPr/>
          </p:nvSpPr>
          <p:spPr>
            <a:xfrm>
              <a:off x="608760" y="1498320"/>
              <a:ext cx="6451920" cy="2400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96880" y="1447920"/>
              <a:ext cx="949320" cy="10159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776772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TBINF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213680" y="1060560"/>
            <a:ext cx="1460520" cy="637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397880" y="1611360"/>
            <a:ext cx="5392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OBRINFO JOB ETBINFO,CLASS=N,MSGCLASS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ETBINFO EXEC PGM=ETBINFOX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  PARM=('-b ETB176 -d SERVICE '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    '-f "Class:%5.5SERVER-CLASS Name:%5.5SERVER-NAME"'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TEPLIB  DD   DISP=SHR,DSN=SAGLIB.ETBvrs.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         DD   DISP=SHR,DSN=SAGLIB.EXXvrs.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         DD   DISP=SHR,DSN=SAGLIB.EXXvrs.S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         DD   DISP=SHR,DSN=SAGLIB.ADA.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SYSPRINT DD SYSOUT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/DDCARD D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ADARUN SVC=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93760" y="3987720"/>
            <a:ext cx="6070680" cy="1841760"/>
          </a:xfrm>
          <a:prstGeom prst="verticalScroll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************ top of list 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:SAG   Name:ETB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:SAG   Name:ETB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:SAG   Name:ETB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lass:RPC   Name:SRV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************ bottom of list 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8600" y="1917720"/>
            <a:ext cx="1285920" cy="8413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27840" y="2103480"/>
            <a:ext cx="345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88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29600" y="3575160"/>
            <a:ext cx="1266840" cy="1212840"/>
          </a:xfrm>
          <a:prstGeom prst="octagon">
            <a:avLst>
              <a:gd name="adj" fmla="val 22134"/>
            </a:avLst>
          </a:prstGeom>
          <a:gradFill rotWithShape="0">
            <a:gsLst>
              <a:gs pos="0">
                <a:srgbClr val="7e4b00"/>
              </a:gs>
              <a:gs pos="50000">
                <a:srgbClr val="ff9900"/>
              </a:gs>
              <a:gs pos="100000">
                <a:srgbClr val="7e4b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775640" y="4030560"/>
            <a:ext cx="395280" cy="385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521840" y="365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82040" y="4457880"/>
            <a:ext cx="579240" cy="225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29720" y="27828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16800" y="1009800"/>
            <a:ext cx="1627200" cy="555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9000" y="1009800"/>
            <a:ext cx="8497800" cy="555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8080"/>
            <a:ext cx="77677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TBINFO Key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1840" y="1068480"/>
            <a:ext cx="175356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PLATFOR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UNT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WORKER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L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ONG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ONG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SH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HORT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HORT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ONG-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HORT-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ICE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ER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ER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CL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LIENT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LIENT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CON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TRACE-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720" y="1143000"/>
            <a:ext cx="144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WORKER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WORKER-STA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ALL-SUM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IDLE-SUM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10000" y="2209680"/>
            <a:ext cx="19270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SER-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P-USER-I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P-USER-ID-CH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TOK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HAR-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END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TAT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I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CONV-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SERVER-CLA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SERVER-N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ICE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AST-A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ON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N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WAIT-N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WAIT-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WAIT-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UM-CON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8320" y="1143000"/>
            <a:ext cx="177192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ER-CLA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ER-N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TRA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-NON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RVER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ONG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ONG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HORT-A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HORT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WAIT-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SERV-OC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NUM-PE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PEND-HI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Q-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400" y="1143000"/>
            <a:ext cx="225504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ver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ONV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USER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P-USER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P-USER-ID-CHA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TOK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LIENT-USER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LIENT-P-USER-I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LIENT-P-USER-ID-CHA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LIENT-TOK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CLAS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ER-NAM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SERVIC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CONV-TIME-OU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LAST-ACTIV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%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41400" y="1262160"/>
            <a:ext cx="18586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UOWI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ONVI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NDERU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NDERTOK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NDER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NDERCLA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SENDER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CVRUI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CVRTOK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CVRSER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CVRCLA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RECVR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SERSTAT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WSTAT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EO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ST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CUOWSTATST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EOCREAS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ATTEMPTCOU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MSQC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LMSQ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WSTATUSLIFET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WCREATET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UW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  <p:transition spd="med"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45:07Z</dcterms:created>
  <dc:creator>Dave Hupp</dc:creator>
  <dc:description/>
  <dc:language>en-US</dc:language>
  <cp:lastModifiedBy>Software AG</cp:lastModifiedBy>
  <dcterms:modified xsi:type="dcterms:W3CDTF">2006-10-18T22:16:33Z</dcterms:modified>
  <cp:revision>21</cp:revision>
  <dc:subject/>
  <dc:title>EntireX Trouble Shoo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kumentnummer">
    <vt:lpwstr>Version 0.9b</vt:lpwstr>
  </property>
  <property fmtid="{D5CDD505-2E9C-101B-9397-08002B2CF9AE}" pid="3" name="URL">
    <vt:lpwstr>http://www.softwareag.com</vt:lpwstr>
  </property>
</Properties>
</file>